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C11-7906-4D13-AFBC-20E7591D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379-C304-4D87-8B31-C160842B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08B-34B5-4E5B-B2AD-8038D49A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7F2-AEEE-43F7-9ECB-003E07D9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EE6-401B-4556-9292-457B3CC0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AF4-5D71-4187-B084-90D81D32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408-1107-4536-8015-980D3FD5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E0F-5E08-4B0B-9A08-4C957810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48A-9551-4BEB-9A90-D3CFE3B8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616-02C7-47ED-879C-76FD6D8D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F00-7019-440A-BFE7-789A2476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ECC-080A-4D0A-A91F-6E06ABD7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4147-B3D4-4070-81EE-E765B857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3-10T13:42:01Z</dcterms:modified>
  <cp:revision>450</cp:revision>
  <dc:subject/>
  <dc:title>Diapositiva 1</dc:title>
</cp:coreProperties>
</file>