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0F4-B8C0-4126-AA1A-88633504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CB2-82BF-4009-A48D-76792AA3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9DE-DB98-4A2A-9734-507F15FF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4E7-5B3F-49A5-A85A-C251AEF6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85A-04ED-4115-BFD7-B5185F73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BBF-71D2-49F3-B125-0B70A40B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4DC-A321-4A60-A518-34099364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F20-6E31-43C9-9122-A773D107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3FF-4FDD-4903-BE90-CA047EC3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9EE-D5FA-44CF-8A07-96802F4F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8F7-3DBD-4D7C-98E8-7FE55340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FA6-02E6-4AC2-B7C6-70AB3751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DA00-D4A1-4D3E-93C1-2A44E28ED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90792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2:00:42Z</dcterms:modified>
  <cp:revision>61</cp:revision>
  <dc:subject/>
  <dc:title>Texto</dc:title>
</cp:coreProperties>
</file>