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CDF-DE22-4E11-BF48-8DDE7DB7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854-8922-458A-A68B-EAF42934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400-357D-452F-AE6A-D091D756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121-1734-4F08-AD87-B1EF3A9A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086-CFAE-45CD-83AB-AD6DEF32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8FD-D66A-4A33-810F-79B27526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A56-D45D-40AE-815C-2CFEB573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CEE-3E04-4745-91A0-91965AC6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5D5-1699-48FE-AC52-1D9AAD75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A9C-5358-4BEF-A184-38FFF53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97A-7B4D-4505-9233-8735178B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B29-8DCA-4187-B4B9-34BC1ACA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099C-382F-4EC4-8C4B-47D1BFC36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1125360"/>
            <a:ext cx="518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1:53Z</dcterms:modified>
  <cp:revision>734</cp:revision>
  <dc:subject/>
  <dc:title>Diapositiva 1</dc:title>
</cp:coreProperties>
</file>