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977-E0E2-43EE-B66D-4945F8A4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05A-33DB-4D6F-B5BD-B3A84E89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853-10AA-4D2D-905F-C186CBB8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0EA-30D3-41E2-810F-BA299D6D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612-E0C4-44E8-88EF-5EF46536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ACD-B891-4FBB-BAC6-BF8C8587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F84-4BA7-45B0-8C03-9E66BB6E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32E-9AE1-487C-9F0C-758DC8C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B73-8AC6-4B76-95B5-E4A39380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675-42A3-4D35-9B7D-A907D894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830-74B9-447F-8429-CACEE7AC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2F0-4C70-463F-A94A-465965E6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42AF-FE04-4D58-8339-577698F8C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90792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2:00:42Z</dcterms:modified>
  <cp:revision>61</cp:revision>
  <dc:subject/>
  <dc:title>Texto</dc:title>
</cp:coreProperties>
</file>