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5CE-D389-48EC-8ABD-169C7F24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B03-4122-4E36-A8F0-A0C6DE3D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C44-3881-4B63-9F93-EC97D7BF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3AC-EA4E-4059-ADAC-53997A3E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6C3-3435-47E4-A5E1-BEE960D6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4A3-C662-4186-BC2A-84B34D7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896-91A6-4E48-94C5-0A46087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B6A-6F14-4910-94F2-ECB375E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802-62E6-459F-9C87-C87FE95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AE6-8040-4254-8860-E96B5F1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AD9-6E31-46D3-BBCE-7216A4F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BA7-77A7-43FE-A220-FE479CF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78A6-9223-49B2-BC84-7AABB9C9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10T13:42:01Z</dcterms:modified>
  <cp:revision>450</cp:revision>
  <dc:subject/>
  <dc:title>Diapositiva 1</dc:title>
</cp:coreProperties>
</file>