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FB5-998E-444E-8F57-E1BEF957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61C-9F54-4F8A-8DAA-F7BCA359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CC6-CAC1-49C4-8E0E-9081E4B4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F9A-3341-4FC9-889F-E3717795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957-95E3-421E-BDF2-079C4B44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8CA-DBB1-4C9E-8379-55C6F2D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58F-C086-4003-B220-2AF170D4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49E-2C07-4F41-9DC7-A4D0EC1C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E50-06E0-4125-8511-3B1EEA39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D63-5361-4080-AED7-42575E6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173-75FE-430D-86A1-91D41B2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2CD-F525-4E1F-97B4-E9409C5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F65-6C40-4745-99B6-32CA991F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90792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2:00:42Z</dcterms:modified>
  <cp:revision>61</cp:revision>
  <dc:subject/>
  <dc:title>Texto</dc:title>
</cp:coreProperties>
</file>