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F52-4954-4615-89EA-4F293F81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723-D677-4955-94DC-2E3E8159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427-EADC-4C46-9436-DB6366E4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0EF-04CF-4BDF-B8A2-E42C8E29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B9C-9DB0-43F9-9D95-BE34D893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964-9F1E-4684-A9D2-4A30E922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4AE-1EDB-49BC-BA42-E02E706E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1FA-62C0-49F6-A969-827C6A47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93C-5FEA-438F-97A9-47EFEA93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DED-F80F-47ED-8DF3-FE3A0B04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1B5-FC67-4CD6-9312-5A1C615C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90E-B89D-479F-8FBF-EE1D8CC9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2886-B7E7-4774-99F5-7DC2CF87E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9T16:01:13Z</dcterms:modified>
  <cp:revision>182</cp:revision>
  <dc:subject/>
  <dc:title>Diapositiva 1</dc:title>
</cp:coreProperties>
</file>