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C4F-3291-4363-BF63-D241BBBB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632-4CA7-466E-B79A-22796A2F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646-9F0B-49A2-9071-E050E4D7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390-5F65-4EF9-9EE5-FE5A4C69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5E9-CB9F-46F6-88E1-39E3FB23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0E0-9AF3-476C-AED1-F3A83477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765-5E34-49E8-9B11-A88002D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578-B862-4A72-8E6E-0B1CA4C0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BAB-75B3-4A1D-ACB6-685395BB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176-6019-4483-8003-718390B4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451-BD64-4024-BA0A-C1FABA09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A22-75E0-4279-9C93-7C34938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3C84-762D-493D-9B37-C669B49CB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4581000"/>
            <a:ext cx="4645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445000"/>
            <a:ext cx="4321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9T20:04:44Z</dcterms:modified>
  <cp:revision>593</cp:revision>
  <dc:subject/>
  <dc:title>Diapositiva 1</dc:title>
</cp:coreProperties>
</file>