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000-108E-42F8-A42F-E212E5E1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C9B-245B-43C0-B10E-B538A8B1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748-3421-43B1-ACCB-5794D37F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714-BB57-4206-A8F3-6FEB2230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D19-FE9A-4109-B5F3-67A63CF6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78F-9923-4A54-AF5F-A66821A4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DA9-85BF-4C8B-94F1-ACFFDD05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022-E799-40E8-A1CC-5F36F723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231-55BB-4DB0-BA3C-96DFAA3D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379-66DF-441C-B9DC-A82FED90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183-40DF-49BD-A155-D576ED6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C6B-EBF9-4118-AA92-11E4424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0C30-2233-426D-82C7-BAB35E6F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3-10T13:42:01Z</dcterms:modified>
  <cp:revision>450</cp:revision>
  <dc:subject/>
  <dc:title>Diapositiva 1</dc:title>
</cp:coreProperties>
</file>