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7BB2-5A69-4B3F-B418-5F2D23336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24B2-B932-4CF1-9715-2BA1BDB00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81AE-E3B9-4209-A6A2-A43B154BC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434F-A1D9-497F-AF36-054DEABBE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7BB1-EF39-4717-AA90-0FC409655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8105-95AC-4CF9-A3CB-A9FEE8524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CB25-039A-4493-B1B3-43A002C71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2083-57B3-4A8A-997E-821D34C15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04C5-2722-4EAB-9BFE-431A00D8F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8005-AA5C-47C5-8812-024E1F81E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6631-77F1-4F04-96A1-163D03F0D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CE91-5C72-471B-A845-DCD2DAC4C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3CF7E-D993-4DF1-9836-9EFE313887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920" y="4581000"/>
            <a:ext cx="464508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2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5445000"/>
            <a:ext cx="43214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ffffff"/>
                </a:solidFill>
                <a:latin typeface="Arial"/>
              </a:rPr>
              <a:t>Your company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3-09T20:04:44Z</dcterms:modified>
  <cp:revision>593</cp:revision>
  <dc:subject/>
  <dc:title>Diapositiva 1</dc:title>
</cp:coreProperties>
</file>