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261-73D1-427E-B06C-01687444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C3B-F1D6-4009-AF86-6A90CAC5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B7E-3B7E-4306-AC3E-697C864C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692-74BC-4BA7-82B1-865C8F64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AB9-A49A-4245-B11A-B08DFD94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80E-3FD4-4603-8956-17ED92AA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6A8-5EDC-44FC-B6F9-EC143B44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C39-D3B5-4C36-A06E-0F8AFA39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C57-60D5-4639-B751-C7758854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C76-23A0-4A53-8574-C9E99244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9A7-B820-4E5D-BF5C-447024D1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DED-5490-4385-A11B-0A11345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4161-2DAD-4940-A9A0-31600E6C7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9T16:01:13Z</dcterms:modified>
  <cp:revision>182</cp:revision>
  <dc:subject/>
  <dc:title>Diapositiva 1</dc:title>
</cp:coreProperties>
</file>