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9E1-F75E-40B9-AA4C-72CC0206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C67-6F78-49FE-89D5-330D3C7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6E0-D727-4701-92C0-CFD5582C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471-4B0C-4C60-B92B-5293D499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8EF-5FD4-4BB4-9807-FA89E342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78A-0CB0-4D07-8DC3-D84BDCF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D84-84F2-4AB4-8257-0EC950C4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3D0-AFC9-4E9F-9E5C-539CDCE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B33-7A97-45F3-832D-D465F5C0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966-4C85-4917-B8C7-28E644C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148-45D4-43F5-9775-77A24CB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DF2-CDB3-4744-B63A-8F8DA01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4A0-CAB3-4102-87B4-4B2E0C03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00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45000"/>
            <a:ext cx="4321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9T20:04:44Z</dcterms:modified>
  <cp:revision>593</cp:revision>
  <dc:subject/>
  <dc:title>Diapositiva 1</dc:title>
</cp:coreProperties>
</file>