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3D2-81CB-4FAD-A644-F9325343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B3A-D56C-4AA4-8EA8-CD8D03E6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377-6E0E-4E05-8450-0D0F53EE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FA4-5DE4-4865-B38F-0D4BF366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F97-3566-45E1-9B08-5B67339B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63B-E7E6-40A1-915A-B511166E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BF1-DD83-4E04-AF87-E5A57851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695-A9B7-4E09-B926-4E337963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355-E8FB-4EAB-8ED1-A78EDDAE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D54-3235-406D-AE91-F134496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5F6-1EC6-49C7-B18B-246B1FC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A08-820A-4A95-A9FF-FCCD985B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88D5-6497-40B8-8A0E-C9F91A178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16360" y="1125360"/>
            <a:ext cx="518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7T18:41:53Z</dcterms:modified>
  <cp:revision>734</cp:revision>
  <dc:subject/>
  <dc:title>Diapositiva 1</dc:title>
</cp:coreProperties>
</file>