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5BB-F070-446D-BC3C-9314A72B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3DB-E43B-476B-9D60-B0936DF7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F88-120B-41AA-A077-A180B69A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C6F-C6DA-4C7C-874E-BA91CC08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F06-C413-4227-975D-0B7135A8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C8E-7B03-43D1-AF5D-CDD8EB52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D68-1638-49C8-BF48-A99C6718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BA8-97D7-4229-92D3-61FDC612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AB25-2A4E-4282-BC6B-465218BD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D8E-CB2C-4C7E-A4F2-8A9023BE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129-D0BD-4D87-9E45-44C816A7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13C-2F44-4F46-A862-E00C0579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B1E7-072A-42FB-96D3-FEF962A1A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35640" y="981000"/>
            <a:ext cx="330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9T15:20:11Z</dcterms:modified>
  <cp:revision>53</cp:revision>
  <dc:subject/>
  <dc:title>Texto</dc:title>
</cp:coreProperties>
</file>