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53A-EC7A-4F10-B643-C2CDA866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3F2-A817-4EF3-82CD-B2103E69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117-C819-4F6C-9977-79A5B68F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FD2-87CD-404E-A812-B4F227BA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8D4-0160-4377-B42A-6464E6A0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8C9-EB6C-4D7B-A3DD-8B449E5F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367-539B-4E94-A45B-7288137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D2F-B1B0-47C1-85A6-3D76E653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580-EAEF-412C-9A86-7F6D3C9F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911-B195-4D49-86B6-FC3042A5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080-FCB4-4B44-84AB-64E49720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360-A5FF-49E1-A1FF-A687873E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FE1-D515-431F-AD28-60639D5F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26T03:59:02Z</dcterms:modified>
  <cp:revision>53</cp:revision>
  <dc:subject/>
  <dc:title>Diapositiva 1</dc:title>
</cp:coreProperties>
</file>