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C394-CC57-41C2-AEEA-85A7178F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870F-AF3C-4DF1-B17F-975F83DE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A753-17B5-4C91-946F-90607C9A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546-B81B-417A-AE98-19B5A042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EE3E-EBDF-4B50-9B2C-1A08625C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DEF-3DC6-47F3-8830-EAD8F8D1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F538-569E-4C97-AC29-5733B3DF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C0D8-68C8-4EB1-86FB-E0F24F49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EE5-13F9-4817-9C93-B15CC092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F055-D22E-4B3D-8E55-0D983BFC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1E3-00B8-45B5-8DD7-B1CC306E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E46-0820-48BC-AF2B-F94E1315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1B82-5261-4D56-A69A-249BF386D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5280" y="4965840"/>
            <a:ext cx="4392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14920"/>
            <a:ext cx="348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9-13T21:23:13Z</dcterms:modified>
  <cp:revision>719</cp:revision>
  <dc:subject/>
  <dc:title>Diapositiva 1</dc:title>
</cp:coreProperties>
</file>