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31D-28AD-40C4-BDA8-03F73C6A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B60-DAAF-42D2-8ED0-9462DEA1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9C5-59FA-4514-B516-F4A5C471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B54-838B-4B2D-ABA9-755A4081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C28-A467-406B-A64A-AE44F81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C38-B70A-49B7-93B7-4D463EEE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866-9096-4776-9BAF-F0ECEC00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921-B659-479F-ABB4-5D40AE73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9FD-BB8D-4AFA-8F88-D3356B2B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2E8-3B4C-40FD-8A8B-E0B65AB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5E1-FBD8-4A37-BFC1-6E3DCFF9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FF8-948C-4E9B-AE86-34C92D7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1D9A-12BA-422D-A607-2E9E947F6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1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8T17:26:42Z</dcterms:modified>
  <cp:revision>688</cp:revision>
  <dc:subject/>
  <dc:title>Diapositiva 1</dc:title>
</cp:coreProperties>
</file>