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EA9-6567-4A6B-9DA9-905165EE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351-0334-43AE-B106-778346FE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944-ADD9-47B0-9C97-4D7F1084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5AF-7D8A-4772-84EB-8A4F3588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21B-71BB-4A6D-B4DE-8FF70A0F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A66-7285-4C94-921D-90EE586F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98E-BE87-41A1-ADDD-69C21261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F6F-7F09-4046-BA3D-E575A6E4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C02-F4F0-4DCA-8FEE-FDCB97D6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4D8-8009-4294-88E3-B4D85C6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B1E-94B5-4207-8D96-9A4EF4D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54D-D831-4EE1-93D2-D7FD3D2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8140-6184-40EA-A495-F48F926EB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4965840"/>
            <a:ext cx="43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14920"/>
            <a:ext cx="34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13T21:23:13Z</dcterms:modified>
  <cp:revision>719</cp:revision>
  <dc:subject/>
  <dc:title>Diapositiva 1</dc:title>
</cp:coreProperties>
</file>