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9E6-40DA-422E-AB8C-9ABB08F2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A0D-E2EA-4730-8E7B-6A8EC87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88F-4FC9-433A-9AA1-4EF50C32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431-5BED-492A-A8DA-CE864D09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D4B-F732-4843-82EE-689AE579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236-855A-4FDD-9B0C-AF3F3206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38C-5B95-4A31-8E91-6044D40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793-21CA-43CF-9CD4-5E28D058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70E-6B25-4F76-A4AF-C68B7A4C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AB0-EC27-48B0-A4E1-91DA886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180-9C63-4137-A905-1FF55D1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CF2-2580-439E-8D6D-89B6F63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212D-897D-4F51-AE12-AC18A7A44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460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604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26T03:59:02Z</dcterms:modified>
  <cp:revision>53</cp:revision>
  <dc:subject/>
  <dc:title>Diapositiva 1</dc:title>
</cp:coreProperties>
</file>