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AEA0-DB2B-4662-8EAF-84CE55074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E8C0-76B1-4F63-A355-D65AE3940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1736-CA0D-4F65-B853-2F8BD358D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7388-28A2-487D-A603-DDBF336EB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0A99-1FA5-4881-9DD6-B5E667A4D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5911-5C93-4F27-B9C0-EF022497E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1C57-2C5C-43CE-BD44-F3A76AD8F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F78B-2125-472D-8CA0-B9F7BD076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BB5A-61C6-4625-AD8D-C7371CDB6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7C3C-E796-4542-AEE1-5D594D82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7BDF-8EF1-4AE1-B154-BB4DC73E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2A6A-D179-4CEC-9C16-0D049CF6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D5DED-1B24-4406-B576-511435DD03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4460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03280" y="22766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604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0-06-26T03:59:02Z</dcterms:modified>
  <cp:revision>53</cp:revision>
  <dc:subject/>
  <dc:title>Diapositiva 1</dc:title>
</cp:coreProperties>
</file>