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455B-3426-4CCF-99BD-1DFB8C21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94C-7EE9-4EB4-8BFA-AB8FA4F2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8658-B2B7-4C14-A4C1-13788141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FF2-3A08-41BE-836E-C3E284D5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2BD-9873-4B3F-903F-F45E0612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B72-F483-4BA3-87B8-4E0A0033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05C-342B-4439-9595-B8D8EE5B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9EB-26E3-471A-87E5-6E06FCD1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94F-0D67-4B01-92C3-B7C49440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E20-D1F0-4F95-8CE0-8546F672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DFDF-F639-4BA7-8CF5-58594F32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A81-3F49-42AD-94D5-62EC0594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3424-09D0-4797-8952-D11F9A576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4965840"/>
            <a:ext cx="4392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14920"/>
            <a:ext cx="348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13T21:23:13Z</dcterms:modified>
  <cp:revision>719</cp:revision>
  <dc:subject/>
  <dc:title>Diapositiva 1</dc:title>
</cp:coreProperties>
</file>