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592-624C-4563-BFA2-82F66755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4A8-44E4-4D09-99DE-EE6AFF92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3F6-5F5A-4D29-A9D5-C5B7F9EE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C93-58C7-484B-B6E7-7DD419A0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7B8-E7D5-42D1-B914-1160BA66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1ED-F231-4A55-8F7E-10D871CC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DB2-9644-4E6A-8A3F-9259D07F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B36-B529-4479-B9B2-B5A89763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BAC-96EC-4332-B588-88B017F1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8814-4631-4D20-8F8D-F7627F5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40A-03D3-42F4-8232-31BF206F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F976-B6EF-4804-B86A-AB29ADCE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2E1-9C62-44F5-BF06-642A9F746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981000"/>
            <a:ext cx="330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9T15:20:11Z</dcterms:modified>
  <cp:revision>53</cp:revision>
  <dc:subject/>
  <dc:title>Texto</dc:title>
</cp:coreProperties>
</file>