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732-26B0-4421-AB78-6CE5D867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401-F0BF-4C59-A9D2-AB16B01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070-D9F1-4575-859B-9E8A6561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9D7-B895-4DF3-BB95-F8D18F7A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6DE-AA03-4BC7-9405-8975BA80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EFD-7D42-404F-BE4E-FFD814F2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294-EFF3-4851-9C4F-72EC11B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CA2-0050-45D5-9A69-5CDD82C6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4E2-365D-4C1D-9B3F-8FCB2FDF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F7C-FDE7-449A-B777-F805362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66F-5301-4475-8C78-0BC837E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955-88C4-42F3-954C-E2F3706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F480-CEB1-4F03-861B-886538D8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965840"/>
            <a:ext cx="43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14920"/>
            <a:ext cx="348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13T21:23:13Z</dcterms:modified>
  <cp:revision>719</cp:revision>
  <dc:subject/>
  <dc:title>Diapositiva 1</dc:title>
</cp:coreProperties>
</file>