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0CE11-ECEA-41E0-8F7E-8A36351A1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931AC-5B8B-40E2-A327-507A1082B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7B873-FDDD-4BB3-84B5-88F8264C1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9B570-51AD-426D-8A2B-71D696A91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2E8E0-03AF-475F-8182-CD2090AAD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66E88-2CA2-4564-A891-47175AE9C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59275-61C0-484E-95D9-CA0F35085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DADEB-8BAD-4B5D-9CBA-187F3B17A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CB53C-1945-4AF9-9BF4-0350B2609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44D63-F3F8-4B03-95ED-ADCE56083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4E3BC-2B15-4D92-A1B9-AF30C23EE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02A04-AF14-4A76-B1D2-B11812F34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FA0BA-272C-4DC8-BB4A-B7605CEB82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0920" y="1125360"/>
            <a:ext cx="51116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800" spc="-1" strike="noStrike">
                <a:solidFill>
                  <a:srgbClr val="ffffff"/>
                </a:solidFill>
                <a:latin typeface="Arial"/>
              </a:rPr>
              <a:t>Presentation Tit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1-08-08T17:26:42Z</dcterms:modified>
  <cp:revision>688</cp:revision>
  <dc:subject/>
  <dc:title>Diapositiva 1</dc:title>
</cp:coreProperties>
</file>