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828-6307-48B6-8150-87921F8F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5F6-77FD-40E2-854A-5FB19688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B10-774E-4606-AAA9-D6B50F5B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5E5-B7DD-4829-B214-1373710D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0CB-8A2E-4FEF-8771-E18221E0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AA4-8A31-4228-A853-5CCEAC32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CC7-3A6A-4767-AB3D-7FF0A118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31F-7F3C-457B-8970-FDBE732F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2DD-F4D1-4025-9576-91E91975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FCE-8EC3-40B2-B9C2-196D12F5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669-5A46-47DD-923C-5935BF65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434F-D9DC-4505-8C10-D7B60414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8AF8-3A73-4809-9D7D-64CEC0997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589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13T12:56:09Z</dcterms:modified>
  <cp:revision>782</cp:revision>
  <dc:subject/>
  <dc:title>Diapositiva 1</dc:title>
</cp:coreProperties>
</file>