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4ED-B039-471B-8C61-48B4A506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ABE-F2C6-4AE2-9495-F506B6A5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927-48FC-4666-A8DC-8D629A6D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83F-BE9B-4AD9-AAFB-9A136394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0B6-E3FB-4A3B-8EF0-7983D3C3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A0D-832D-4DC8-B92A-F4206EA4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8D7-3F21-4FB9-AA57-77C711C7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0AD-2FA2-4DF0-B996-B02146DB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EED-7467-41C6-BF30-2E260D14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0AF-A221-4D2E-A2E1-3ADAA943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7D8-A5F5-4328-A6A8-88EA073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6C6-DBF6-43E4-8B41-805F6979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5509-95AF-491C-9FB0-4F345913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5111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08T17:26:42Z</dcterms:modified>
  <cp:revision>688</cp:revision>
  <dc:subject/>
  <dc:title>Diapositiva 1</dc:title>
</cp:coreProperties>
</file>