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AAA-273D-417F-A7A1-05085EB8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A35-EC56-4247-9AFD-CEE13CF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F98-6346-4093-8A97-B1538BBF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AA-8D16-4315-B64B-0BBD8A54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E28-1753-4073-B803-6774307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157-31E5-449D-BF2D-1095A34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E18-314F-4028-949A-524E33E0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9A5-E7CB-4791-863F-7F559AB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E35-8485-47F9-ACC6-918D4CFE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87D-5A85-4F09-83D5-816C7CB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8A1-FAC0-4C42-B68E-955836A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28D-4F6F-4835-A88B-99EA9A8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F9C8-4E8A-4182-AACE-DB099F40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2:56:09Z</dcterms:modified>
  <cp:revision>782</cp:revision>
  <dc:subject/>
  <dc:title>Diapositiva 1</dc:title>
</cp:coreProperties>
</file>