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CDC-42BF-40A5-9F90-978F791D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15A-F815-4F1D-BD0E-3F0DF8EA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7E3-2EFB-4AC0-BE31-D3EC1C1F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F91-C52E-479D-B9AB-5C565505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E26-CC6D-45AD-BA4E-A5A4707D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67A-9C20-4630-9054-3DB2719C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6BD-F105-4BBA-A27A-CB1DF686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6D9-8073-4E11-BFF3-665FB1BC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2C2-916B-4D3D-89DC-BC980DBD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701-A703-4ADF-BEAB-EC50E0D1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6B9-DCBF-4F1A-93E6-0D708D7C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06F-5177-4637-A3FF-79438845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61A2-DB19-4AB0-9D88-2C93D94CD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35640" y="981000"/>
            <a:ext cx="330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9T15:20:11Z</dcterms:modified>
  <cp:revision>53</cp:revision>
  <dc:subject/>
  <dc:title>Texto</dc:title>
</cp:coreProperties>
</file>