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7F3-4901-4E2C-8388-A66E25CE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7DA-E03F-4DE9-B319-A1988436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815-B80E-4F59-B4BE-8AA93247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A46-F40E-4E8A-BCD4-0E08DB1D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471-6FF4-4A5E-B19B-4AEBA49B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C70-7860-4AF4-B73A-80CAC2A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E03-E8E3-4963-8C9E-37771062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048-1EFB-4A02-A588-0E6D8DF7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95E-E7FD-40BA-B820-6C810C4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97D-401D-401B-A447-6697CDD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DD6-AB1C-4ED9-8A13-0F76279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AC9-46DF-4D20-A2ED-B5CE1232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9869-4F88-4683-BA21-1B065AB3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6T03:59:02Z</dcterms:modified>
  <cp:revision>53</cp:revision>
  <dc:subject/>
  <dc:title>Diapositiva 1</dc:title>
</cp:coreProperties>
</file>