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55C-C514-4043-AD0E-82EE7F25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8FB-9630-4832-8E5E-E7434D14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E23-DD7B-4CF6-8812-71612CFC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F4F-B2C7-4486-9500-4D22B99E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DDD-E812-4866-990B-DC543975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95F-572F-4288-B75A-65E7B886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8E9-15F7-40B9-BBE3-40609CAE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2BB-ABDB-4B37-A8A5-03526359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118-2A69-4479-88B3-FCB1C636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E4C-AA22-449D-912F-FEAACAD1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611-0CC4-4F13-8E3F-7A54F1D3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DCC-22A9-491A-9FD7-8265F2A6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9994-ED8A-4BEA-A90C-0E6F0376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3T12:56:09Z</dcterms:modified>
  <cp:revision>782</cp:revision>
  <dc:subject/>
  <dc:title>Diapositiva 1</dc:title>
</cp:coreProperties>
</file>