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9CC0-70AF-409A-9775-82AC5109A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F175-545F-4ADD-9A27-63B43B02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287F-9FDA-46E5-AF13-C99719A9A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8596-5623-4608-B539-679F523B8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E7B8-C37F-4EA1-AD8A-DE0FA8B1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E877-692F-4900-B05D-9A739AF1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0119-D2AD-4859-82AC-BCC0A671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CD2A-D061-464A-8696-9F103CA8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9BE6-03A6-421F-B317-79A2FE6D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FD68-08DD-4C66-93AD-93A94E3A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1210-9D00-44E8-91EF-A7296256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2323-BA3A-4CD5-805E-4E35F2A5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FDE2-FA67-43B5-B92D-22515AB8E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1-26T17:31:54Z</dcterms:modified>
  <cp:revision>335</cp:revision>
  <dc:subject/>
  <dc:title>Diapositiva 1</dc:title>
</cp:coreProperties>
</file>