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781E-5E31-472E-87A9-6CF7121B0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247C-930D-4071-9E8D-E6B05189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AFE1-D945-4D90-89EC-F37FF0E7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D56E-A2A1-4DBD-A42E-846BAF434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9833-31AB-400D-84F0-E9A2AC88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3DC0-D32C-4D54-8AE2-FC90575D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5DB6-3FB9-41D8-8CA2-214CDFBA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7305-330F-4578-A3E1-CD8069CF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E4AA-6588-4F3F-8AF3-CD13F23A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6C55-180E-4E1E-9F7C-7F53D36D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B500-5531-43EE-9899-9793426D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3FD9-8DF6-429D-9801-B8344D30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227D-37F2-4242-9810-9AB348AED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530028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5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6092640"/>
            <a:ext cx="396072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500" spc="-1" strike="noStrike">
                <a:solidFill>
                  <a:srgbClr val="ffffff"/>
                </a:solidFill>
                <a:latin typeface="Arial"/>
              </a:rPr>
              <a:t>Subheading goes he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5-13T18:33:34Z</dcterms:modified>
  <cp:revision>538</cp:revision>
  <dc:subject/>
  <dc:title>Diapositiva 1</dc:title>
</cp:coreProperties>
</file>