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04B-3118-49C4-82AD-A1BB0C0C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D7B-5FBB-442F-BA72-227A3F56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B0F-FE97-4C05-9193-AE2F307D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90C-7E76-4952-B83D-C27C6172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61C-A2EE-4BB6-8DDB-A556307C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204-32D0-4608-B515-ADA86448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B32-2DE7-4E64-AC17-E5B11267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9B7-215A-4E63-AA78-1B9FDA1A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414-25EA-4529-8454-C52AF801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C72-9023-44AA-87C9-A8A9D9F9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D96-2E63-4627-81B4-51E5FDAE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9F1-9E1C-4322-8F27-3E228114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1F2C-6493-4E4B-9543-65DCA9AF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660640"/>
            <a:ext cx="4427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609300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6T14:37:01Z</dcterms:modified>
  <cp:revision>716</cp:revision>
  <dc:subject/>
  <dc:title>Diapositiva 1</dc:title>
</cp:coreProperties>
</file>