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9251-0229-4A17-8A98-7916CB740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14B8-638D-4578-9A0B-AAECB93D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10B6-0D33-4FE9-9DCD-17DB90124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E667-6F16-4A9E-95EB-CDDA7D4A3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0B6B-9F18-4320-9D12-40E25392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30DD-C9F0-4BBF-9A54-5BAED5E2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88DB-ABD9-4F10-B844-FB6BF520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ADAD-4C82-4086-8DEC-8F9EEC46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3EC3-DBF9-44AC-A1FE-F54FA5E5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8031-73FF-48D8-8BAE-E0A7B23A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D389-FDE7-46ED-BEB8-21C8CE79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039A-3DDE-4D77-A5DC-DDB2B8ED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5098-D7CF-4DC7-A7D0-C2AD65D31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530028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5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920" y="6092640"/>
            <a:ext cx="3960720" cy="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500" spc="-1" strike="noStrike">
                <a:solidFill>
                  <a:srgbClr val="ffffff"/>
                </a:solidFill>
                <a:latin typeface="Arial"/>
              </a:rPr>
              <a:t>Subheading goes he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5-13T18:33:34Z</dcterms:modified>
  <cp:revision>538</cp:revision>
  <dc:subject/>
  <dc:title>Diapositiva 1</dc:title>
</cp:coreProperties>
</file>