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A46F0-FF72-4C20-BF8E-E4CA46C49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DCA01-F19A-4C35-B099-CC5A00FAD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846F4-D40A-4708-AEA5-0C5B9E2C9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587C3-2E17-43A0-879D-96379506D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D76CA-67C2-4A54-A821-B2C8F65E2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EBCF1-89D4-4083-9993-6D4962794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BF1F0-3660-44F4-87B4-6FB89EBEC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E03FA-FFF6-49FE-9930-4E0819F1E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2287E-ECA6-45D9-A7C6-0771EB02B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A1479-F7F7-48FB-8AB8-A27009366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8B216-16EB-40AA-8625-E82A8D2EC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672B8-7088-46B8-B1C6-6448701E7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F9493-8D06-47DE-83BA-B60E1F6211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1-01-26T17:31:54Z</dcterms:modified>
  <cp:revision>335</cp:revision>
  <dc:subject/>
  <dc:title>Diapositiva 1</dc:title>
</cp:coreProperties>
</file>