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D52-FDC4-4584-81F7-9C4944C5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BE5-725A-4EEA-B088-D0792E75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9D00-475E-4F0F-8C04-65E27D2B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5D2-065D-4810-AC73-E4669284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658-49CE-410A-9C63-9B5468C5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941-AD6D-4F0A-8768-CE9219CA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0F6E-F250-4AB5-A33F-D1247FAC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643-29CD-407E-9DC6-00643821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BAF-695C-4B2F-84C5-B804D21A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2E5-9046-43BF-BDD1-43C5B7E8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E40-00F2-4672-ADFC-04D207B3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650-0FBE-4FEB-9FE8-CA276EC3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637A-C4A5-4115-AAE3-A5D563496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42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28:01Z</dcterms:created>
  <dc:creator>Mariajose</dc:creator>
  <dc:description/>
  <dc:language>en-US</dc:language>
  <cp:lastModifiedBy>Mariajose</cp:lastModifiedBy>
  <dcterms:modified xsi:type="dcterms:W3CDTF">2009-03-19T21:16:54Z</dcterms:modified>
  <cp:revision>29</cp:revision>
  <dc:subject/>
  <dc:title>TITLE</dc:title>
</cp:coreProperties>
</file>