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B0F5-3C16-468A-9081-47CDBAD4F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F55E-FCE9-4A21-822E-5497ED650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E3BE-3FF7-419E-A524-3EE4F10C4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FE8D-7C7F-45ED-82C3-A77499F10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D0A5-1BF6-42DD-A6DC-419C5D716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8FEA-1152-4CB9-A55F-AB45359C2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AE37-5644-4DD4-93AB-B5CC975D2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0F5F-BE2F-4B7D-BAE4-C4EFD4115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EF28-5E29-4713-B20C-48EAA4D93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43DF-6567-46E8-BEAA-ADB3ADD7B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1B0D-A0FA-47A7-94D5-54ABB9DD4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F854-337B-45DE-9C0B-5E44FC67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0989A-BE15-4F32-9455-E5B05A41E3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8424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1557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1T01:28:01Z</dcterms:created>
  <dc:creator>Mariajose</dc:creator>
  <dc:description/>
  <dc:language>en-US</dc:language>
  <cp:lastModifiedBy>Mariajose</cp:lastModifiedBy>
  <dcterms:modified xsi:type="dcterms:W3CDTF">2009-03-19T21:16:54Z</dcterms:modified>
  <cp:revision>29</cp:revision>
  <dc:subject/>
  <dc:title>TITLE</dc:title>
</cp:coreProperties>
</file>