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C54-135F-4481-ADC3-8E245739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C23-518C-4893-BE0B-B975CE2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04B-042C-49EC-982E-05433BF5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6FA-7126-459D-BEC8-2583B2A3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2C4-FADB-4E1F-8476-4DE46B50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3EB-F317-43D5-9382-2E95CD96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063-CE70-44BA-B00B-F80ACEBD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A14-A130-4014-9E97-F470CDBE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72F-76DD-4DBA-9394-74F3F169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158-5D37-480D-A241-8A6984B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941-09B0-4265-9B5D-FCB43B53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538-4BD8-4498-BA39-C806633C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C1BD-B0A8-43EC-ABE0-E2C003D8B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660640"/>
            <a:ext cx="4427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09300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6T14:37:01Z</dcterms:modified>
  <cp:revision>716</cp:revision>
  <dc:subject/>
  <dc:title>Diapositiva 1</dc:title>
</cp:coreProperties>
</file>