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413-5751-460C-ABFF-896E48C0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0A3-C54E-4856-B69E-89BA1FF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5B1-42B8-420E-87DC-CC5929E6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5D3-60CE-475B-9AAA-86D2C546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C08-421D-4C80-8E6D-E3C6444D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9D4-AA34-442F-9D63-1FEFA302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D35-D4DF-4EE3-AF97-0A8786CF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A77-D62E-4702-B069-061D9E90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740-7B9A-4DF8-BCB4-C275AC2C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CC3-5ABA-4996-8E30-FE627C8A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24A-6A53-45C7-8DFE-4C07A2C0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52B-9D8D-42A3-A594-692561A4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433C-9BEF-435D-85FC-8BA2BC5E8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1:54Z</dcterms:modified>
  <cp:revision>335</cp:revision>
  <dc:subject/>
  <dc:title>Diapositiva 1</dc:title>
</cp:coreProperties>
</file>