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391-0420-4169-A648-03236459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6CD-FC4B-4BEF-B3BF-C6076EE6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AE8-90B3-4B69-9024-541304F2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21E-04E6-4C79-8855-8E9EC89E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F1A-B587-414A-B771-5964B1A5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A11-6869-4FC8-884D-2B4FD208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0E2D-3D1E-41F7-9555-3F130E6B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856-5A5B-4AC5-A52D-436DA53B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9E5E-23B2-4393-9308-D23787B3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4817-207E-4026-9988-B5BF4E70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91A-02C4-4972-81DA-304881B3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6F8-463D-431D-8DE0-4A6E0523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6483-4BC0-47DB-8464-1651B376C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30028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5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6092640"/>
            <a:ext cx="396072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5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5-13T18:33:34Z</dcterms:modified>
  <cp:revision>538</cp:revision>
  <dc:subject/>
  <dc:title>Diapositiva 1</dc:title>
</cp:coreProperties>
</file>