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7F0F-E299-4C5D-987C-146DF90F1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568C-56B6-4B33-9CF0-9748740BB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3197-7687-411E-AAB1-D85ADAA66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E994-AFC2-4EC2-8178-884C36240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F78A-BB3C-4DF5-9400-986238188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E1E8-A9B9-4E6A-9BBE-8D6D4127E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F246-A00A-4135-AAFD-BED94BDE7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BA41-2256-469B-9D46-E46189777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CA44-BE0E-4553-B5BC-0AC0206B3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F04A-0E30-4F28-9237-C89A42A4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C022-18C4-41A3-8F93-79639B33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C157-7B58-48D8-80EB-11606AA4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EA860-A6E3-4AF6-9C3C-8096E49E1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4436640"/>
            <a:ext cx="442764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000000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5157720"/>
            <a:ext cx="396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2e1700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4-27T14:57:22Z</dcterms:modified>
  <cp:revision>672</cp:revision>
  <dc:subject/>
  <dc:title>Diapositiva 1</dc:title>
</cp:coreProperties>
</file>