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F55-0E2C-4624-BBEB-A63E4C16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AEF-0532-4C5A-87D5-6AB7790F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A0A-3F4D-4532-B141-8294EF9B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70C-AC06-44D7-9A75-E0F69C51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DF6-379F-4C27-BEB5-1F11136A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E43-3653-4D13-8B27-93DEB42D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001-AB9F-437A-A9E2-444743B8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14F-9D37-4F04-8B2F-C14AA58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40A-E674-492A-9B41-97BE15C2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824-C1B1-467C-9861-A427B864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954-2A54-4E78-87A5-42C6AF5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3DC-0D57-4DF3-AC0A-4D22E6C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F4E-E676-436A-9F36-6EDB85032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08644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7T18:44:16Z</dcterms:modified>
  <cp:revision>671</cp:revision>
  <dc:subject/>
  <dc:title>Diapositiva 1</dc:title>
</cp:coreProperties>
</file>