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3789-F020-45BE-8C7E-B0860FAC4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44D5-4903-4E1E-BCA6-50AFC029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6AA6-F8D7-4839-81ED-2E4E10B61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C811-6ED1-4DD3-952F-CDC24F96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CC81-71D0-4B93-8417-E4EEA13C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B0B5-BCD3-44EA-8D98-C578611F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FE20-18B2-42E0-BBF4-F487622D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E84A-8CF7-431D-8A4F-9FFDDAE0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B1B4-4053-4D07-BF50-0C4ECA36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06C1-7FDE-425A-98AD-0EA8E445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88D8-906A-4DCA-B53D-52001829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3F42-5ECF-4ACF-AAC8-1FBEEF97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2C3A-80B4-44A9-A00F-9CF6A64EB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86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50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2-22T12:41:40Z</dcterms:modified>
  <cp:revision>554</cp:revision>
  <dc:subject/>
  <dc:title>Diapositiva 1</dc:title>
</cp:coreProperties>
</file>