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7AA-C5D7-4240-8278-131CDAF4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EDF-77CC-42E1-A008-CCA4DD0E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E8C-47E0-478B-923D-F4E46954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4C9-9561-4F7D-93CB-4F3F0AB6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30E-5F40-40B7-A48C-25AFA66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113-5A69-4808-A759-CFE2AA4B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411-C87D-421B-875F-B60D1E05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7FF-C246-4127-AFE4-E42B998F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983-3DE6-455B-B0B9-5E65806A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234-2A3A-4A45-80C5-D1F1342E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EE8-6D7D-4671-84D8-7B27C49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CB2-014F-494F-BC29-6264BFF8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414B-EC59-475B-ABEC-2CAA80B57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15772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27T14:57:22Z</dcterms:modified>
  <cp:revision>672</cp:revision>
  <dc:subject/>
  <dc:title>Diapositiva 1</dc:title>
</cp:coreProperties>
</file>