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DCC-24EF-487A-8127-25BF5992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C4E-81DA-4E41-A38E-2D3A62EE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41D-8FDA-44D1-BBEB-6011DD2B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83B-90AB-498B-9989-54571D29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916-9044-492E-8591-30671A88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07E-5E0C-4A40-B4DD-559837B3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332-9025-45D5-AE3A-4EAD5381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E14-8F79-409A-8586-B720ED4B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630-2FB3-43D3-A3A9-7EA37489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166-BDC8-4158-91B3-82B4DDF0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FA2-BB84-4D9F-A34F-4C5691B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AAA-34BF-4235-A6A6-E057CB7C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71CC-FDC0-4C6D-9DE6-4444B3D8B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508644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7T18:44:16Z</dcterms:modified>
  <cp:revision>671</cp:revision>
  <dc:subject/>
  <dc:title>Diapositiva 1</dc:title>
</cp:coreProperties>
</file>