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174-D60B-4EA1-9BBC-D0723A60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932-06FE-4569-A7E0-72FCDE0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15B-99D7-4965-8825-9E446D3F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5B2-28F7-419A-9C71-227CC670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17C-4ABA-422C-8511-306A09A2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7DA-8205-416A-9033-3C33C2F1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731-CCE1-4904-88EF-F08E72C7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5A8-6253-49B0-9829-03B89F4F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A13-12A6-43AA-810C-CCF17ABA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54B-7212-454A-AF87-2769FF6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33A-A2BF-49B8-9501-369FB113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DCD-5F78-456A-9F7F-91AD8A3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F076-47F3-4071-A197-C2FA4ECAD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2T12:41:40Z</dcterms:modified>
  <cp:revision>554</cp:revision>
  <dc:subject/>
  <dc:title>Diapositiva 1</dc:title>
</cp:coreProperties>
</file>