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46FF-60EB-46C8-892F-2C62627C7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4512-60BE-4DD6-A737-AD4F9D18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1B0C-1B61-426B-B886-3EA40C461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D944-8FD5-45A6-8EA1-173F2C297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E91B-E387-42DC-8243-35783DA21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77B7-C4CE-4F02-8B8C-1A3A10404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1763-2F31-4C40-BCCE-9A94C4EF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1F60-50AA-471D-9B88-25D433FB1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1C19-43BA-446D-BDC9-409309855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C636-0D05-4E6C-B048-0857B09D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3FAB-8AB3-4875-AD83-5B1E3D05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DE28-DA42-4ACF-92BF-978D9500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BB0F6-FF72-4759-A2E2-455178C87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87280" y="4436640"/>
            <a:ext cx="442764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000000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5086440"/>
            <a:ext cx="3168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2e1700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4-17T18:44:16Z</dcterms:modified>
  <cp:revision>671</cp:revision>
  <dc:subject/>
  <dc:title>Diapositiva 1</dc:title>
</cp:coreProperties>
</file>