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8F8-E7F3-416F-82A3-86C2A112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858-EB6D-4ABC-AFC9-BDB1229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3CE-1E04-4A3E-AA78-FA3FE3F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A3B-2E5E-4322-81C4-9BA95A50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59A-4190-4681-AA5D-1C7C59E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8EE-DBF4-4AD6-9D4B-B079F6E7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50F-4A9F-4D18-A0C0-B7C1ABD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286-3885-41ED-89C5-438A8CB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16C-7657-4434-802C-0283A30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7E5-028C-472F-B0F7-5A106D7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58C-FAB6-4C38-A03F-6E0E529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E04-89D7-4598-B1B7-D6EFA6D9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8F4-BAF2-4967-A78E-4955C0610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2T12:41:40Z</dcterms:modified>
  <cp:revision>554</cp:revision>
  <dc:subject/>
  <dc:title>Diapositiva 1</dc:title>
</cp:coreProperties>
</file>