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D4B-7449-4458-884E-7A279491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521-F891-4F20-BC44-AB32D1EA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77B-C54A-46DF-BC05-37F7FA3C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012-877F-447F-A3F2-2B6B7F85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17C-1CAD-4732-96AE-9E981117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01D-C6CF-4AE5-8EE6-C036909C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459-290B-48D7-8089-B83E8DBF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693-5562-4163-8B1A-03935CF6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709-53D4-4C4E-9888-8BCD8B85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8CD-F192-47EC-87C1-DE48A9B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EE6-19F1-4A16-AAD3-6C011A70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EEA-1D4E-42FD-8FC6-A4F83D7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5C90-8667-4D46-9BA6-0F4C57F9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2T12:41:40Z</dcterms:modified>
  <cp:revision>554</cp:revision>
  <dc:subject/>
  <dc:title>Diapositiva 1</dc:title>
</cp:coreProperties>
</file>