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45D-D21B-4D94-BD08-D7177615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8011-FB34-4A9D-A13C-B219BBD7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7E21-0747-4AE9-BA0D-392CE529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1AE3-A7EA-48F6-9F10-4BC81B21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7C9-4D82-420A-8741-C62E9003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E8E-E087-4A69-A598-13223209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186-6762-473F-80F9-BAA670B0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3D77-991D-459A-A69A-ECF449D2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6B53-6808-4C3C-920C-7FE424E5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1D3-6BB4-4142-860A-A0BB4E77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D25-0E70-45E5-A7FB-057B023D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6B54-36DE-4582-86C3-CDF48242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F10F-1C3E-4053-AE57-B983C3C02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443664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5157720"/>
            <a:ext cx="39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2e17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27T14:57:22Z</dcterms:modified>
  <cp:revision>672</cp:revision>
  <dc:subject/>
  <dc:title>Diapositiva 1</dc:title>
</cp:coreProperties>
</file>