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3DB-6DF0-403A-B0F6-1CAD0735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D7B-6566-4B07-B8CB-42E93A7F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843-23E8-4FDD-9865-283BF60D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CE3-2CA4-4BB9-9ECD-33C323D6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5C4-8040-4BE6-A045-40E2FC7E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C4E-4D5C-4E85-A0EF-3FA5C6BB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5F4-53EA-46ED-950A-F32618F1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F2F-0E41-47FA-8496-7859222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B68-4E5F-4913-9101-AF83C11C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883-7086-4E4E-8AFA-38D30DE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B38-A35E-401C-8B6F-4E886EBD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7DD-B1C6-4A8C-BDCB-9B81DF9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F396-6A09-4FB4-84F2-540EBD870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08644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7T18:44:16Z</dcterms:modified>
  <cp:revision>671</cp:revision>
  <dc:subject/>
  <dc:title>Diapositiva 1</dc:title>
</cp:coreProperties>
</file>