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D889-7153-4146-81DE-4824723A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977F-8097-499D-B28E-E1D12A23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2855-84DD-4CD7-A41B-E838D930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F08-FB28-4598-962B-ECFE0496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C50-CA4C-4005-A344-C6B5F2CB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88C0-75DE-4386-9CA5-4ADE8AE9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42A-D32E-4031-82DC-728BECBD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41F6-7D46-444D-AC6A-192F9DDF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268-52ED-4E64-B027-3BB85018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6151-7A07-488C-8D34-26746CC8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D233-692B-4EB8-A99F-61556674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8417-1124-4F60-9721-09818FE6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6E8A-33D4-4081-81C2-AB6EBA134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86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2T12:41:40Z</dcterms:modified>
  <cp:revision>554</cp:revision>
  <dc:subject/>
  <dc:title>Diapositiva 1</dc:title>
</cp:coreProperties>
</file>