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9FA9-D72A-4927-ADE5-56EA7DF9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36EF-82E3-4042-89EA-4F4443EB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266D-7464-4FA6-A845-C5F54736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BB28-6588-4B73-B1FD-6EE51B635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1C67-1137-4587-9DE8-5A0695FF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C606-9BA6-44BF-A0E7-BC9BFE2F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4A8B-BB73-4A8C-A13A-8334E2D4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C9D2-C3C2-488C-AF7E-70719717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83CF-30AC-4816-A722-25A8AB52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B784-9B5F-4031-ADA2-2CC24920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D80B-BBE9-4D34-88F1-70254924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FD6B-2E9C-42AC-9750-5D95BBBE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3D56-5644-4D81-8122-14E970376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4436640"/>
            <a:ext cx="442764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5157720"/>
            <a:ext cx="39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2e1700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4-27T14:57:22Z</dcterms:modified>
  <cp:revision>672</cp:revision>
  <dc:subject/>
  <dc:title>Diapositiva 1</dc:title>
</cp:coreProperties>
</file>