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338-E1C3-46A4-8B39-D93EC056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11F-7AAC-447D-9CC9-681F2FC4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E0B-2D64-4AB3-AE5E-CCA52703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3B6-075C-400A-83C4-914EC4F5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C9C-B69D-4269-8270-1326550A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CA4-2C7E-4A6A-85EA-2D598E5D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B6A-9E49-4D9A-A66E-77ACF65E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C14-4A66-4218-B8FB-75AE8D1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78B-BF7F-4E80-953D-D2A65F3D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019-3FB1-4FA3-946E-FB7A593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BE0-6019-4E9B-AF43-2530AB5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179-767C-4CC0-8BC5-6CFE60E8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19A3-DB71-43BC-BEDB-D683F5E45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14:57:22Z</dcterms:modified>
  <cp:revision>672</cp:revision>
  <dc:subject/>
  <dc:title>Diapositiva 1</dc:title>
</cp:coreProperties>
</file>