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2D21-5429-4358-A16E-CBDC1A0C8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F371-111F-4F38-ABA7-F830E0B6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2CA3-A4D5-4742-B6A4-1D1466575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70B7-AF4F-4B14-B6BD-FD891F6CE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B82E-09CD-4BE5-A64D-CAF6A632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DB42-577A-4756-9F41-F7B2D26E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FEF2-4EE1-4EC4-8DAE-D26B7163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B196-5ECB-476D-8D74-EAAE603D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FFC5-8EA2-4D6C-8F74-9CEB8A1C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4F31-7645-4BDB-8B5A-07581A6B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0C22-3087-4F60-A05B-45B86547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E42F-5346-46B0-AB1B-9CFD194E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1CB6-07F8-4FED-9E87-27F73229D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87280" y="4436640"/>
            <a:ext cx="442764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5086440"/>
            <a:ext cx="31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2e1700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4-17T18:44:16Z</dcterms:modified>
  <cp:revision>671</cp:revision>
  <dc:subject/>
  <dc:title>Diapositiva 1</dc:title>
</cp:coreProperties>
</file>