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8C3-1561-4CA0-929F-ACBFAD03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2A17-B3FE-4B20-B34A-84ED1860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B1F-AE85-49F0-B66F-2CDC7F2F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D6F-C224-45D6-858A-D4E40300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E696-CB25-44F5-888F-BC9DBFF9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5BFA-CD1B-4A10-A4DB-2DA19AD4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7DAF-FA68-4392-9D8E-9F6F629C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93B-944E-4165-90FD-B7D5134F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8C4-2CDD-494D-ACFE-9FC16BC6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957-4F4E-4981-AFDE-AAFE47EB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2EB6-482D-400F-AEF1-EF768928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8A5B-EB16-436B-BBF8-9E5F648A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B612-25E1-4FA5-8564-8E65148CD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5472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4T23:04:35Z</dcterms:modified>
  <cp:revision>838</cp:revision>
  <dc:subject/>
  <dc:title>Diapositiva 1</dc:title>
</cp:coreProperties>
</file>