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7B6-CC79-4D26-A3D5-1A02A37D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FED-C5C6-4A44-A716-82A4F1C1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92A-C381-4DD0-B631-6000720C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2AC-E25E-43A5-A789-2A97CBE1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D233-40EE-4509-890C-45EE7FB3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FA2-3D60-44FC-815D-EA55C51E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DBD-8862-4B88-A632-16AB5A11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9FA-8085-4183-B94E-FB1C7F98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01F6-FE7F-45C7-8EC5-081F2E9E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456-9A92-427D-B302-B36EFA67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840-D1BC-4476-910F-FF9571C8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14AF-FAEC-4807-9870-191BCF28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006A-57FB-4647-9BA0-B716C3A50CF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8:56Z</dcterms:modified>
  <cp:revision>757</cp:revision>
  <dc:subject/>
  <dc:title>Diapositiva 1</dc:title>
</cp:coreProperties>
</file>