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147-A27B-4BD0-86B7-A1A43F98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54F-21C1-454D-ABB2-3FE42AF8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48C5-4C0F-4427-BAF7-00BCF3DE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EA2-2D3F-4F10-9F12-7FCC95E2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749-AE46-4130-BFA9-2C912C3B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54C1-D138-4C43-96A3-A957AE53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5DD-0E41-4B64-A6B6-DC9127C3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5A35-341F-4099-AC58-A0CA25AD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3C7-5196-46C1-8141-21DB1C44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333-1D47-48E7-A93F-19B59582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71FD-8F66-4D56-94A4-DC4D12B7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B8D-D18E-49C9-85FA-6909E14F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F530-E3CB-4D81-9871-B3DCB944AC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55640" y="90756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161645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55736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161645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52:52Z</dcterms:modified>
  <cp:revision>709</cp:revision>
  <dc:subject/>
  <dc:title>Diapositiva 1</dc:title>
</cp:coreProperties>
</file>