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835A-65BE-4663-977A-CACC76D61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1083-2529-4B3E-8BD4-5D056AE04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662B-8231-460E-AC70-A8ADDD614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FF78-B56D-4BAC-B62C-BC3F7C8BB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A8B5-C94C-4721-B1AF-8EC9F7F38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ADFD-3502-43FD-84B0-7FE97120E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9971-240B-4BAB-BEE9-046FD416B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8293-C468-4819-8109-113FB6127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CA0B-2365-423C-8E8A-67AE89C9D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83C7-BF53-4F56-9AC6-277B5B486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B3AB-FCAF-4264-A23D-8AB46C1F4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6E81-782F-4FC5-ABB2-C360B6DA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52D92-EB47-4E18-A7B2-73D8F6C926F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2205000"/>
            <a:ext cx="5656320" cy="10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002060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70"/>
          <p:cNvSpPr/>
          <p:nvPr/>
        </p:nvSpPr>
        <p:spPr>
          <a:xfrm>
            <a:off x="250920" y="2924280"/>
            <a:ext cx="486396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000" spc="-1" strike="noStrike">
                <a:solidFill>
                  <a:srgbClr val="002060"/>
                </a:solidFill>
                <a:latin typeface="Arial"/>
              </a:rPr>
              <a:t>Subheading goes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2214720"/>
            <a:ext cx="82296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2214720"/>
            <a:ext cx="82296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3-04-11T19:20:30Z</dcterms:modified>
  <cp:revision>759</cp:revision>
  <dc:subject/>
  <dc:title>Diapositiva 1</dc:title>
</cp:coreProperties>
</file>