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8DC-4706-4C4B-8453-8F1389E0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CDB-AA93-4985-8C79-FAFBED1E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2897-98BB-465C-95BA-F7C0CA0D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AEC-4463-4F9D-9489-B939FCC1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87E-BFB3-4500-BC40-A7BE3B9E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6CC2-B5DD-411B-B8E6-435274A8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369-74AD-4D44-B313-93D6DF37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036-A087-4336-94F0-851BD257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1909-F4DF-46E6-87AD-C781C791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CE63-1967-4D62-8FAB-D28ACD5C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23A6-979A-4565-A8CC-057E9B79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1D1F-E853-41EC-B2AD-DDC67392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C036-A925-418F-BD5E-1BCA792D0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2-09T14:12:18Z</dcterms:modified>
  <cp:revision>372</cp:revision>
  <dc:subject/>
  <dc:title>Diapositiva 1</dc:title>
</cp:coreProperties>
</file>