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6C8B-FA0D-4C09-856E-BAAA2702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E04-0E30-41AB-A372-A9F3D27E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1B09-44CF-4CF7-A6DB-26B8004F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E68-9677-4AB7-9C45-95DCF9EB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6F72-6513-4200-B825-2436E0D8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9E1F-4BEC-42D8-99BC-A9E09A11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540D-C7C1-4AA7-B09D-C80988ED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5860-ACD8-4372-BD0C-43B38D45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75B-F07C-4E14-96E9-D1550646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77CB-E597-45C5-B430-BCE74EC7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0A0-24EB-4189-B616-B8CB529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8B91-B728-4521-B890-794BCC5C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360B-9DA0-46F7-915F-EFF2F18FA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 o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4038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546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riajose</dc:creator>
  <dc:description/>
  <dc:language>en-US</dc:language>
  <cp:lastModifiedBy>Mariajose</cp:lastModifiedBy>
  <dcterms:modified xsi:type="dcterms:W3CDTF">2009-09-22T20:21:32Z</dcterms:modified>
  <cp:revision>1</cp:revision>
  <dc:subject/>
  <dc:title>Title</dc:title>
</cp:coreProperties>
</file>