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A07-3E17-4671-8E81-9DD4FCEE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FA41-A96B-4BDE-B8D8-06338494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69DC-EE5D-4C12-99F3-044C5D44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6A6-56EA-4EFF-AA5D-551AFF9A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94D-312B-4620-AFD3-852ABF8D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5B6C-8296-472E-9AF5-7033802B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330-3B05-4B3C-8439-B511411E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BB27-59F1-4580-98B4-581FB41F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6ADF-24BF-4D01-BD0D-2D5ACB49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B3EA-7399-42ED-8497-2A5AF375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C0F-22E9-42DA-B04E-76ADF4FD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499-91D9-4342-B59E-9CB5D9F6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F106-E6BA-4216-BE4A-B3E178C446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8000" y="4983120"/>
            <a:ext cx="565632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206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4140360" y="558972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2060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4-11T19:19:40Z</dcterms:modified>
  <cp:revision>758</cp:revision>
  <dc:subject/>
  <dc:title>Diapositiva 1</dc:title>
</cp:coreProperties>
</file>