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ED86-78EA-41F7-A62D-FF4B873D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E9D0-5050-4D11-B0E7-4098D08E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9B9-2B02-4628-82A4-547FC616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3C8-EE87-4386-A429-C9140B80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C50-6153-4277-8981-067E3A98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752A-BA3A-4FD0-B4B8-9E7C8168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E509-FD33-4501-867E-97B0A3A8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A0C-ECB8-4DF4-8960-FCCE5BB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ACB-AF49-4DC4-B1C9-6CB76507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961-9567-42AF-A3E5-93F8ACAB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6ACD-C169-43B9-AC3C-2782B025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87C-AF63-4741-BA67-45E87B4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B367-2CB3-45EB-A2A3-9C0F04118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797000"/>
            <a:ext cx="4537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44500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9T17:55:07Z</dcterms:modified>
  <cp:revision>576</cp:revision>
  <dc:subject/>
  <dc:title>Diapositiva 1</dc:title>
</cp:coreProperties>
</file>