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D991-EF67-4A2D-A304-6F61D2C4D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F753-D8C0-421D-83BA-663408FC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C709-97F0-49A4-AD52-4C940DD62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08FA-AAC1-48AA-9DB0-F80287A8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27A8-03C4-4F8D-B555-9C1832CC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D7AD-84A9-499C-AF78-F7AF9F37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49F0-FC68-4659-8A7E-A37207AB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FCFB-99ED-419A-A12D-6A989D94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6822-D487-47A2-9297-8BD1190C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7887-2EF6-45FC-B240-04589C67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5076-8925-4275-8B09-F478861C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415B-5F6C-4AB2-BB32-D99D78D8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3EBA-F48C-4E46-87AC-44813412C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5084640"/>
            <a:ext cx="5472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003300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1-24T23:04:35Z</dcterms:modified>
  <cp:revision>838</cp:revision>
  <dc:subject/>
  <dc:title>Diapositiva 1</dc:title>
</cp:coreProperties>
</file>