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272-58B7-4F75-B799-04F9435A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CBB-D2FF-43E4-A602-2D7A5542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0B9-7870-4B12-B9C0-CABB4200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6C4-96FB-48DB-A615-D86BA1DA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5F8-7542-43AA-BC6B-76FA659D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98B-8918-4F79-ACEC-4E834CA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CEE-79E3-40B1-BCC4-7D6C6F6D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6A5-8B59-4048-A9E8-CAF7978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D1F-828E-4307-A289-9C178B30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ACD-0219-46C0-913B-29E03E3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F0B-880F-44ED-A89F-CB07D9F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969-CD31-42FD-89F0-D0B213D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E4BE-CCB5-4C24-9A02-F82493F12B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8:56Z</dcterms:modified>
  <cp:revision>757</cp:revision>
  <dc:subject/>
  <dc:title>Diapositiva 1</dc:title>
</cp:coreProperties>
</file>