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C2F8-1361-4A2B-8698-46AECEA2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A908-AE04-45A5-A31F-156FA884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874F-716A-480B-A240-3046DA6C9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5E0E-D971-44A5-B7E6-7DB8F044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E03-7CB7-47FC-8AEF-056D4D43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5E1F-C0A1-4059-B1F5-FD078C9F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70DD-17C7-4B40-92EF-6F0DBA99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4BC0-CCA2-4CDA-9E2B-6080ABAB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8DC4-83AC-48ED-AD6B-939BD5A7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2DA1-74DF-49FE-AE0C-F99C6E36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CE94-E2A5-4A47-B9FC-EFF6EA38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AB15-1824-45B6-8E52-66C6B3AF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BEAE-968A-44D9-8076-5ABE06340AA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5640" y="90756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161645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5076720" y="1557360"/>
            <a:ext cx="36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161645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4-11T19:52:52Z</dcterms:modified>
  <cp:revision>709</cp:revision>
  <dc:subject/>
  <dc:title>Diapositiva 1</dc:title>
</cp:coreProperties>
</file>