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B5DA-91CD-4A97-BB99-80836FC13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FE66-6955-4BC5-B0A6-1DD57AB8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5CC5-77F4-4377-83F4-EB2A537B7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C3FF-34C7-4B8A-A2F2-A7FE54995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360A-766A-4FEA-A436-BF45080F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EBE2-C290-4DC0-A9C3-85F4357A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F21F-1EB4-47A3-94D0-26AD71CA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0370-763D-4954-B334-5CB9F418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9A98-D1CC-4600-A88F-B12D1B14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083C-106D-48D4-92BD-93AEC04F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E894-3331-49A3-B2B0-F92CB479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123F-33A2-410A-BECD-82C6EBE1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B6BE-29DE-4CBD-BEA1-44F80D89C9E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205000"/>
            <a:ext cx="56563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206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0"/>
          <p:cNvSpPr/>
          <p:nvPr/>
        </p:nvSpPr>
        <p:spPr>
          <a:xfrm>
            <a:off x="250920" y="2924280"/>
            <a:ext cx="486396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002060"/>
                </a:solidFill>
                <a:latin typeface="Arial"/>
              </a:rPr>
              <a:t>Subheading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3-04-11T19:20:30Z</dcterms:modified>
  <cp:revision>759</cp:revision>
  <dc:subject/>
  <dc:title>Diapositiva 1</dc:title>
</cp:coreProperties>
</file>