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2FF-DC9C-43E3-A2F1-9DFCDE3A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B22-96BE-4A9B-9109-47C6A2B3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EC3-5A24-48F9-8096-5CF099EB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D1A-0692-492E-B3A8-7DD38AE5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A9C-E2C9-484F-8CE7-A5FAD77D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B1E-C051-467A-A6F7-AD94B8C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582-593B-4AEF-AE95-B7DBBE06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ECD-8780-4631-BD8C-24C895EE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01F-0003-488F-B51D-2E4C4F9E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A58-44AE-444F-9FC5-C54DDED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FFD-93E5-4B20-84EF-5240FC82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1ED-17C6-404F-804F-93E99D6E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A7A-C312-42F1-A51E-09EC456D2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9T14:12:18Z</dcterms:modified>
  <cp:revision>372</cp:revision>
  <dc:subject/>
  <dc:title>Diapositiva 1</dc:title>
</cp:coreProperties>
</file>