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543-07BA-4A8C-8F68-CDB0E2CE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195-BDE6-419D-B812-B79B154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D7C-4C89-4A92-9419-1D072A21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32E-F7BD-42E5-9907-30ACBF98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B1E-DD0B-4B61-A838-2FB8888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7BE-89F2-4566-8E1F-BBCBF7DC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896-F8AD-460A-813A-5766FC59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353-6EC3-46F5-9149-8296AAE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ECC-38EB-412F-AC2E-066097C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3B5-DD6F-43A1-80CC-E6E56D4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523-4C6C-4B78-8530-AC2DF61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2C1-91C1-415F-B7EC-F2C2F0E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EE7-8A30-4317-A3E2-499C672DA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09-22T20:21:32Z</dcterms:modified>
  <cp:revision>1</cp:revision>
  <dc:subject/>
  <dc:title>Title</dc:title>
</cp:coreProperties>
</file>