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312-B6B9-4799-906D-545B9764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32E-F8DA-4AF0-8113-612B2C1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B1D-22B4-4D08-984A-3CEE7CA1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5A3-669E-4FE4-A496-125169BC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030-6564-4D38-ACC3-0FB7122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059-077A-44AA-8079-AD0330B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B6A-92E3-4312-8B6E-9CE33938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011-C4AF-42E8-8F68-88639855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7DC-E2DF-48CD-A799-37A27AA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D38-1A0D-4D46-BA4E-8004F32C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FEF-88C0-4709-A7BE-599834F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13F-BB79-443C-8F5F-288CEAE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65B-112D-43F2-9309-CD76CC2DFE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9:40Z</dcterms:modified>
  <cp:revision>758</cp:revision>
  <dc:subject/>
  <dc:title>Diapositiva 1</dc:title>
</cp:coreProperties>
</file>