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FAF-5515-4594-80A6-3E42D088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03B-8AC1-407F-9FB3-15CDB31A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ED0-CBAE-47D5-94EE-A61B581D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4FA-E5B9-4B6C-8A0F-8C73D042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288-7C89-4146-AC4B-D6E45A8F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457-B0C1-4D97-9BCE-5066CDCB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D4C-E60F-46E8-844D-E5917997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C54-D517-4E6B-92AF-E1A5733C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1DD-F15C-46BD-A96A-0CB828A5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DF0-1A48-4BBA-8C45-2EEAA7C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A29-A8C2-42AA-937A-21B38D11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9DA-2EEA-49EF-8153-A66B6D4E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41A8-7A03-42A9-AD64-0B4BF7F90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79700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4450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5:07Z</dcterms:modified>
  <cp:revision>576</cp:revision>
  <dc:subject/>
  <dc:title>Diapositiva 1</dc:title>
</cp:coreProperties>
</file>