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13CE-BE7B-4C5A-9B7C-5AD11F74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1A91-2158-4C57-898E-96FFF9C5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316A-1CDD-4C74-85AB-3BD9174B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F67-D338-4F73-A3AC-1AF4753E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007-CE13-4F35-B235-CA4AC926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7A5-96A9-42F6-91C2-F0DD5079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BED-73C3-4B4D-BFED-C730E6B3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2C0-CF20-4F87-8732-9CDA3E7C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E7A-C866-49E7-B17F-B40F6F46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39F-8D51-41E0-A4EF-B31AE2E9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86B-9E38-4F41-85A6-36416EAA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1A5-7EA5-4C00-8586-5244951C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E286-74CE-40E6-B9A6-9D5785BE3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 o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 o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46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Mariajose</cp:lastModifiedBy>
  <dcterms:modified xsi:type="dcterms:W3CDTF">2009-09-22T20:21:32Z</dcterms:modified>
  <cp:revision>1</cp:revision>
  <dc:subject/>
  <dc:title>Title</dc:title>
</cp:coreProperties>
</file>