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5843-395D-4DE7-BFBC-2F4A280F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C030-84C1-4CBD-83E7-35D87B70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55D6-B894-40E1-803C-BC917CB2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C740-18F7-4A54-A073-32800868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3F1-1190-4640-AA49-BE28F34F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72DE-8733-47E5-BE6F-E661E8E6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80D6-95A7-4CB6-A809-660BB7CD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B407-C150-4F68-BE0E-11431558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8D3-7611-41D2-AB68-11CE492B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2C10-6CA1-4641-8A28-5076064F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9457-8C63-470D-8BBB-EB88192F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343B-925E-4F82-9A8D-B080C65C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33A2-8353-4CA8-96EF-EAC00F5D3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640" y="4797000"/>
            <a:ext cx="45370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8000" y="5445000"/>
            <a:ext cx="399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2-29T17:55:07Z</dcterms:modified>
  <cp:revision>576</cp:revision>
  <dc:subject/>
  <dc:title>Diapositiva 1</dc:title>
</cp:coreProperties>
</file>