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EA-4B59-496D-BD5F-D6C88229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86B-85A9-4B32-B6C8-C787266A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7B0-9F1F-4B94-9BB4-EFDAC51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302-231D-4430-B4DE-8D370127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D3C-C097-4391-91B1-48525EF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2EB-774D-4AD3-90B8-D00944E7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B94-77E2-467D-8BC7-E2AEE89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51C-0927-4183-9A0C-15DBCC0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404-B571-4C10-B1A1-B278E48E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757-F655-45B2-BB94-7F6DB18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69-6302-4994-A77F-030A8EE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E60-FCA3-4BE1-835A-825DA03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D635-2E6D-4984-97C2-1BB6105473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52:52Z</dcterms:modified>
  <cp:revision>709</cp:revision>
  <dc:subject/>
  <dc:title>Diapositiva 1</dc:title>
</cp:coreProperties>
</file>