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59E-9618-468A-8DD4-789B8099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D52-E028-4180-A1E1-2202B457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8EE-E132-4427-A5DD-0C8F5B52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7D5-6583-4E4E-AAA5-98FA2EDB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84D-578F-4288-BFD8-761EEF84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724-80BB-437E-89C5-C702F0EC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3D78-E254-48D1-8F14-63ACF9EC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56D-9628-4CC9-9C34-909921FD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E16-3CEE-442D-8E8A-90DC2914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07C-B583-4CAB-B48E-FFEB775B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8D6-FF53-4F90-97CD-38F05ABB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7C8-A759-4059-BC36-B870BAB9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35AA-8AAF-45B2-A3D6-CA9F395CC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09T14:12:18Z</dcterms:modified>
  <cp:revision>372</cp:revision>
  <dc:subject/>
  <dc:title>Diapositiva 1</dc:title>
</cp:coreProperties>
</file>