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30D-84FA-4593-870A-A3DF06FD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00E-CD01-49A7-B135-1E680312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D4C-E18F-4F57-8DCB-8DC1517F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184-7062-416D-BA85-F7752A65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7F1-4335-4BE6-BC3A-EFF2C329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FB4-1782-4D7F-8A8C-79E77A39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01E-F98C-496F-98A4-5CCF084E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E7A-F49F-4AE3-A2F4-DD695154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D8D-668A-4AF1-A49E-5BA9CA63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4E1-0DB8-4FFA-BEE6-1A30548F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656-8081-43D8-983F-71A4DDCA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24F-9E04-46B7-A576-CCD9CD17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5D76-FB0F-4277-B588-4917B6EAFC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98312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140360" y="55897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19:40Z</dcterms:modified>
  <cp:revision>758</cp:revision>
  <dc:subject/>
  <dc:title>Diapositiva 1</dc:title>
</cp:coreProperties>
</file>