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CED8-CA01-4662-BCB7-2B9EB77EA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292A-1E40-4DB3-B959-AEE4E757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9AF9-BE78-4295-A06E-93AD20CE4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31A8-82A1-44B1-9D91-CBDBDEDEF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3900-008B-42FF-85F0-779197D0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02A0-CF75-4094-8207-18BF26A6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2839-4BEC-4358-93E8-F4040C2C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2953-14E2-4CEF-AB1B-D2235E97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05C5-0942-4B3E-9D04-3EABF727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B2FB-E7AD-4F8F-9D97-B1CCF119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15F9-FE5A-41FB-AD9D-95AB9316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AA44-71AD-4F40-BCA2-E57A0129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B711-DF04-42FA-82BE-DB374B298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5084640"/>
            <a:ext cx="5472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003300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1-24T23:04:35Z</dcterms:modified>
  <cp:revision>838</cp:revision>
  <dc:subject/>
  <dc:title>Diapositiva 1</dc:title>
</cp:coreProperties>
</file>