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722-5C43-442B-9731-DD0C1972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8D3-1157-46CE-884A-07DD02FC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5D1-EDE8-477C-90CB-41F627DC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23A-A235-4334-8561-42375D0E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38C-C61D-4250-9B22-1D2D7A8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468-DEDB-4EF0-9313-A85CF8B0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B84-74B3-4FF4-9B87-439865FB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A61-3CC8-4D14-98CE-3F5C188E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26A-577B-427B-A717-2660617B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C13-20ED-47D2-ACA4-74C6C87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84B-4960-468A-B360-98EFE41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E9E-8D1F-4933-BA20-44FC57BC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63F6-0B3F-4622-83DB-3BF242E2B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79700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4450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5:07Z</dcterms:modified>
  <cp:revision>576</cp:revision>
  <dc:subject/>
  <dc:title>Diapositiva 1</dc:title>
</cp:coreProperties>
</file>