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16C-CF45-40C8-8C4E-05CA44E9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240F-64A0-4453-ABBE-D5528986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CB5-7F4C-476E-ACCB-EFEC40CC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306-569D-40EC-B0CA-BE058B39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C442-4FC4-493E-BACF-792AB9BD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810-D5C3-4687-B6F3-9D94ED63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43E-DD50-4AC5-92B1-D2766837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D90D-4D1A-4483-B5B9-BDBA944A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9DFA-5C67-4BB3-9DA3-2584A7CF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6C38-DD29-4DC4-B5E9-9048BCF2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4178-9041-48F0-BD30-EA7CC1AE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262-8A0B-4966-BC1D-2D9D7D43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D692-0792-422E-9154-B6707D6F6F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563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206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250920" y="292428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2060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4-11T19:20:30Z</dcterms:modified>
  <cp:revision>759</cp:revision>
  <dc:subject/>
  <dc:title>Diapositiva 1</dc:title>
</cp:coreProperties>
</file>