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BBE-583D-47C1-B1BE-4FCD0D83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686-42B7-477F-A959-A72D3F03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403-0045-4260-BCA2-9FC7A924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7C3-1FC1-4714-A7DE-8BC1E202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FFF-2BD3-4612-A7B8-792EEA23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998-67AB-4B2A-8221-1594D017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DB7-4408-4196-AFB3-A5C919AB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02B-3382-4A2E-A2AB-98915F59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2FC-33FC-40A2-B109-F681EE84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7EB-D294-4689-AC90-099023A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110-5A8A-4BC7-BDF7-4F04BCB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BAC-EACF-47DD-8892-E9A307E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B3CC-B205-499F-9688-EED548549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6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09-09-22T20:21:32Z</dcterms:modified>
  <cp:revision>1</cp:revision>
  <dc:subject/>
  <dc:title>Title</dc:title>
</cp:coreProperties>
</file>