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1FC-80F7-499E-8013-14868513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9F8-8751-4751-A5AF-DAB0D32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2A4-A1FC-4BA6-A721-AD81A0FD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EE4-10FD-47C8-8AEA-C132BA27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298-34ED-4F07-92DC-256B2B5E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B20-914C-4B05-8804-A974304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FDD-8FFC-4787-90CB-2729D63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0C3-C6DB-4E71-A498-9789AACA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C2B-8791-4930-BA6A-93713E7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BF0-97D7-4D27-84C6-5653D91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6A1-7244-491F-A51A-A44E609B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D85-615B-43BC-B3D7-D4B2C99B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56B-12E9-4DCB-904F-C56C4BE4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9T14:12:18Z</dcterms:modified>
  <cp:revision>372</cp:revision>
  <dc:subject/>
  <dc:title>Diapositiva 1</dc:title>
</cp:coreProperties>
</file>