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F7B-27CB-4F34-86D3-230D2DFC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0BC-1AAD-4B9C-BBA0-21B7F220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B9F-B3C6-47FE-8D36-3F0E13BE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160-B5FC-4AC6-867B-C07BB1D8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646-DBD6-4978-A0B0-A0757DB4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4EA-D03C-410F-AA46-441ECEBC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F58-F01E-4D14-8C41-72B3E78B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349-8FF6-4216-BBA5-8B1464E3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AD7-FA2F-43B9-A271-2A868B94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B0F-3ECC-45A5-B982-50D2802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0CE-0083-4E36-92CC-DA4AF79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821-7715-4EDC-8551-5B4E51A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1567-0015-4F8A-971E-C3DC65F577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8:56Z</dcterms:modified>
  <cp:revision>757</cp:revision>
  <dc:subject/>
  <dc:title>Diapositiva 1</dc:title>
</cp:coreProperties>
</file>