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088-56CF-4937-947F-8659E263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57A-F66B-4A49-8634-FDD5E497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9F65-BB05-40DD-AEA1-7ED116CF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F41-A813-4CFC-BF4C-B4999623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45A-00F3-483D-9669-C990337C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67E-823D-4CAF-A74F-0F908CEC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5A2-2255-4818-AD73-E11E3674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E958-B5BB-4081-8441-CA521334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A88D-6C18-447B-851D-3B6A0331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0FC-06F7-443C-9551-AC1A08B1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FE3-F812-4F29-AC93-50C216D3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6FB-5CB2-4364-ACCD-CB6059C2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8137-7471-4C62-B8E4-F5A540BD9A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90756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161645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5076720" y="155736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161645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52:52Z</dcterms:modified>
  <cp:revision>709</cp:revision>
  <dc:subject/>
  <dc:title>Diapositiva 1</dc:title>
</cp:coreProperties>
</file>