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B76-B5DF-49E6-AA36-2FD21429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29C-2FA2-41CC-BFD2-A5F62A0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E61-0979-433D-98B7-09AF0567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49A-1C60-41DA-82CF-E845065E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BC2-EC0C-49EE-AFF1-1657CE4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692-853A-465F-A10B-9D198AEE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0CE-4F1B-41C3-A559-05656B64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12F-90FD-4538-BE5F-F0B304F7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B4D-D458-4DA1-96FC-7F8028A8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494-56A1-4FD8-8031-4372453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349-92B0-49DE-8578-E241CDF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373-BFEE-41A2-8BC0-E1EFCD2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0045-9C52-4720-BCD0-634FC2560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547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4T23:04:35Z</dcterms:modified>
  <cp:revision>838</cp:revision>
  <dc:subject/>
  <dc:title>Diapositiva 1</dc:title>
</cp:coreProperties>
</file>