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774-4080-4AB9-8E12-CF220F1D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DA5-DFDE-4865-BADF-873DD146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7AF-1AA9-4566-84EC-F1166F85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EBA-9033-4FE3-A9B6-1DDAFF45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354-59CD-4ACB-8FD0-C47EFBE5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5F6-943E-42FD-847E-BDF442F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159-3654-4D7B-9DDB-C5CB7F5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A8C-7C4F-4F82-A0BD-B33BE1A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BF4-B80E-469B-8095-C88E175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45F-F985-46AA-9573-DC31956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73F-E0B4-4E91-B86E-7C07CF6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BA7-231C-4C18-B7AF-DA16967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1ABC-AA36-43B7-A1FD-38AC897BED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8:56Z</dcterms:modified>
  <cp:revision>757</cp:revision>
  <dc:subject/>
  <dc:title>Diapositiva 1</dc:title>
</cp:coreProperties>
</file>