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FB5-91D4-4DFF-A353-96305B9F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405-7867-4580-812D-9C99704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7B8-2120-47BB-BEE9-1992A222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6BD-7923-4661-98C1-ED341231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38E-DBF2-4009-9DA3-178C213E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D28-77E6-494B-81CB-13BD9871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6A8-3EEB-4785-9F7A-2C1F9239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1F7-2A91-4221-A4CC-D241496D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EBB-AE95-43D8-955F-5795F71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DC7-A117-4651-A65E-AEFD650F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76B-C494-4983-B97C-48EA623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04C-3ACC-48FF-857D-5F49F0A6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A5C-8940-41F2-80D8-B4B665A227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9:40Z</dcterms:modified>
  <cp:revision>758</cp:revision>
  <dc:subject/>
  <dc:title>Diapositiva 1</dc:title>
</cp:coreProperties>
</file>