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47A4-E2D7-4382-9AE4-16F13AB1F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C987-5EC5-496B-9997-0E4B9457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6D79-6520-45B9-A017-FD9B54B37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8606-F425-46CE-9D9A-CCAF078DB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A350-A6BA-424A-BC29-FAE6CE3E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8A60-E7E5-4FA2-8D63-A2667EA8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C097-58B4-4E21-9FB7-EF9E3264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E546-3EA6-4632-83A2-F7452197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A46C-3A22-4658-AB53-C1E9A4C9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F153-30E7-4A27-98F6-E46DF2AF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285D-6E5F-4CFF-80CF-2BDD7C9C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4285-A6C8-429B-89F2-43A9A35F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EB37-9F8F-425E-8EBC-E6F55F17E9B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205000"/>
            <a:ext cx="56563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206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250920" y="2924280"/>
            <a:ext cx="486396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002060"/>
                </a:solidFill>
                <a:latin typeface="Arial"/>
              </a:rPr>
              <a:t>Subheading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3-04-11T19:20:30Z</dcterms:modified>
  <cp:revision>759</cp:revision>
  <dc:subject/>
  <dc:title>Diapositiva 1</dc:title>
</cp:coreProperties>
</file>