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C89-8D12-4AF4-8DE5-30CFB755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CBB-A15D-4025-BA27-FD44C5E4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694-EFB7-48EF-A4F0-A035C989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987-FA95-4FFC-B77A-2DDD28E5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B3E-D4D6-4FEF-8D07-F6C5C4C7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096-9A91-44C8-A40A-DE6A4689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D91-A180-4A4D-9369-E2C12B97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D37-6508-4176-A371-52829643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C5F-65B4-409E-A0FA-F0ED773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3EB-4553-4197-8A84-D7754AA7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B11-D64E-4BA9-B474-D24E8DD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C96-62A6-49CE-A9FD-16DDDE7D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4E79-6232-4162-B94A-602D658C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18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7:37Z</dcterms:modified>
  <cp:revision>738</cp:revision>
  <dc:subject/>
  <dc:title>Diapositiva 1</dc:title>
</cp:coreProperties>
</file>