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F02-7799-4BC5-80AC-BC70FC19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8B1-4368-4400-8C90-684CC0FF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9BB-42C4-4AAE-A589-11C794AE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B38-2AD8-4FCC-A20F-162716E0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A93-8756-493E-A27E-26985D93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1CE-AD5F-42A3-A706-2B3E887C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0DE-EB5C-4955-9E26-4D03943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13B-0A3F-4BDF-93B7-F8EA1B42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AD5-4C77-45F9-B2F0-F00541F8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60F-FC23-4563-98E3-1174068C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B70-A54A-4D3B-87B6-44668490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E26-D997-4814-992D-EBA78269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19F5-AFB6-49B0-B13A-593BA6D36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5T16:52:48Z</dcterms:modified>
  <cp:revision>606</cp:revision>
  <dc:subject/>
  <dc:title>Diapositiva 1</dc:title>
</cp:coreProperties>
</file>