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96D-EFBC-47CD-AEF7-3352AEE5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0B8-62D9-4240-8093-6588777F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0A9-FBFA-4384-91A7-BFEBC920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98D-2B17-4C87-85F4-06BEBA53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E7A-54E6-4330-BD9D-0C3DCE5D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BA8-D45B-494A-BF6A-55EF31FF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364-9BD2-4976-AB45-4CAA33B5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2B9-38A1-467B-8E77-59C0539B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0FF-0162-4F30-9354-8E9E01E7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28A-70DB-4406-9217-2E38E5B1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38D-14AA-4096-A3D4-EB08A6F8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7A9-A266-4AF2-BE44-59F1E80D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04F8-4AC9-4C4B-8E5B-4E30C7747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1T14:03:21Z</dcterms:modified>
  <cp:revision>781</cp:revision>
  <dc:subject/>
  <dc:title>Diapositiva 1</dc:title>
</cp:coreProperties>
</file>