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51F-9B5C-4357-BFD4-EAAF95C7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715-221E-4043-B030-D07F0EC1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353-74D5-485C-864F-FCC647AE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5CE-497C-4C10-BD0C-C738CF60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F17F-FBE6-4BD1-BFF3-A0B151F7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BC3-95E2-406C-A4D4-CA318A31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BD2-B397-4033-B0EB-19A92692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DE2-F2D1-49DC-904C-B140B348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E46-FACF-46E7-B5E8-B113F9F1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9D3-107F-4C1A-AC22-19B597C7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A40-E1F4-48CC-BB83-7B3D265D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33EA-857D-46C5-8B27-D3A6B4C5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C0E5-65F8-4FF9-B949-D44304A0F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1268280"/>
            <a:ext cx="4896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1c1c1c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22T13:39:31Z</dcterms:modified>
  <cp:revision>711</cp:revision>
  <dc:subject/>
  <dc:title>Diapositiva 1</dc:title>
</cp:coreProperties>
</file>