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247-B0E6-46A2-935E-82784126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908-9CC1-4778-A694-F77E32D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B09-09FC-46B3-9B68-99EC89D6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E47-19C2-483B-9830-1E165A3C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B02-1C90-4B46-B90E-C3F06353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12C-CA54-4180-87DA-52D10C5A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38B-48E7-4CC0-AE5F-C2A7798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C33-04BB-4835-B1CD-A7E1F53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B2B-94DB-4C9C-891B-6B135A00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D9A-D154-405D-A2FC-849FE0C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3C2-AF55-46F5-A718-D75587F1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53A-9728-428B-8A1B-EB3CBB4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751-FA42-46BC-B39E-3354C9FE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1125360"/>
            <a:ext cx="72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4T00:58:44Z</dcterms:modified>
  <cp:revision>733</cp:revision>
  <dc:subject/>
  <dc:title>Diapositiva 1</dc:title>
</cp:coreProperties>
</file>