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6A8-2630-4DA2-81A0-72680B89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AA0-831D-49F9-B7EE-86A43FE6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DFA-4777-49C9-A825-6D39CB1F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B88-03A5-4810-8920-4BE37CE7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4BB-1F6D-4CAC-9ACC-BF611A4E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921-6578-4EE8-A531-0C05553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AC-3F98-4210-BD7F-3B7871D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125-5E35-4E38-871B-38FB588D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5DA-2D9E-476A-99E3-DC1479D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D44-44F8-4D2E-9D9D-DBCC56B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09D-E99B-4992-856F-0776F83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7D2-4477-4A27-B358-9BB8A5BA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3C7-9457-40E7-8A06-F4BDA48A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26T03:11:49Z</dcterms:modified>
  <cp:revision>121</cp:revision>
  <dc:subject/>
  <dc:title>Diapositiva 1</dc:title>
</cp:coreProperties>
</file>