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30A-35D6-4E76-B765-195FDDA9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A80-6F88-4B9A-8C31-0DA3C58D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D0A-D341-4085-962D-8DD3C2BC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1E3-6911-4167-A805-5EDCEA26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70A-4636-49F1-A34D-F391E1F3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657-C54E-4569-97A9-F6F6E245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EF6-7306-4DE1-8370-371F6D62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CEB-A787-45D5-9BF1-4BB65CAB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73A-1570-4830-AF12-767D4EAF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B52-58FC-4DFE-B95A-D3803ED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427-8A5C-4F26-BB15-DCE6244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FA1-3281-4516-97B0-179B048A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48E-D43C-48E3-93F0-E13ECFC9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26T03:11:49Z</dcterms:modified>
  <cp:revision>121</cp:revision>
  <dc:subject/>
  <dc:title>Diapositiva 1</dc:title>
</cp:coreProperties>
</file>