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B4EF-0D08-4FB7-AA4B-BF79656CD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1311-DD8D-4AC1-8CCD-2761612D2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104B-2B12-464D-BFA6-3B62DB2B8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A302-92C3-4A79-A48C-E13BA0B82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6AFA-6CF0-4462-8D14-BE13DEFD6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79C5-E4B4-4B19-AB51-5D3801B51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F548-C96A-4AF6-8902-B937B201C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279F-D8A6-4D13-BC69-BE1B55926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9FC3-AABB-4A40-AC6A-D25B19D6C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B7E5-6562-4650-89C5-963780D7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AB76-20BD-4078-99CA-A42BCBCF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08D7-02F9-4D64-9CA8-6BDACBD7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AC773-E913-466A-8388-797E11F22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4652640"/>
            <a:ext cx="439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5589720"/>
            <a:ext cx="518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y nam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y position, contact informatio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 project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12-11T14:03:21Z</dcterms:modified>
  <cp:revision>781</cp:revision>
  <dc:subject/>
  <dc:title>Diapositiva 1</dc:title>
</cp:coreProperties>
</file>