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856-C692-4B61-B57A-C3097BBC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158-5D8F-4C0E-A658-3CDFBB17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442-A06F-461B-9E7B-3AB36D02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9C2-D0B7-49E6-810A-15AD3278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32E-9A8E-4542-BCF9-B6102BB9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FA0-20C8-41A3-A95C-5D438EEB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8FB-09C6-4947-A75A-9DCDE231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238-58F0-4520-97DE-901B680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D7E-6E5F-4252-9FD1-8B7D2372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924-23D0-4676-AA85-3A2BE92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9C8-24A3-4C03-A16F-C425A9A3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176-8AE3-4C53-8CDF-5DEF8BB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C71A-0AE2-464C-B9C8-AAFE4B766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268280"/>
            <a:ext cx="4896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2T13:39:31Z</dcterms:modified>
  <cp:revision>711</cp:revision>
  <dc:subject/>
  <dc:title>Diapositiva 1</dc:title>
</cp:coreProperties>
</file>