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6D3-EC3E-44AB-AA87-16920BF2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8AF-96D1-43AF-93A5-184F329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7A2-3013-4A63-B5EB-97C76527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E70-967C-40AE-8755-08F92220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836-107D-4AF2-AB8F-A615AD65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2DC-C394-4A7C-9385-6820C519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A64-3760-49C2-9DCD-4D97A950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E61-A01F-47E4-897B-1144263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CF0-F419-451C-BA16-1CCE9DF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306-CE34-497F-8CB8-CB22AF9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510-863F-41D1-88DD-A833655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B41-390C-480A-8384-4288B2A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9B1-4C50-4CAC-8055-FE529333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1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7:37Z</dcterms:modified>
  <cp:revision>738</cp:revision>
  <dc:subject/>
  <dc:title>Diapositiva 1</dc:title>
</cp:coreProperties>
</file>