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743-9591-430B-A024-B1D1A5B0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68E-3E5D-436A-9C9D-CA3124E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7C8-736F-4550-830C-8471E90E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47A-1C48-4851-A2B7-D2636C14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0DD-78BC-4B74-A766-6F63F485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B8D-150B-4116-82B3-E59D3A40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58C-6C45-4DA2-9663-A398CCD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092-80A7-4317-88CD-5DBC0113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FFD-33E3-45E4-A482-804890C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EA7-E359-443C-9915-BAD2899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2FB-84B9-44E4-9050-E3EB2CE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2CA-EDCD-45A2-9B6B-F85B778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BCE5-D971-4534-A3A2-01ADD4F6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1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7:37Z</dcterms:modified>
  <cp:revision>738</cp:revision>
  <dc:subject/>
  <dc:title>Diapositiva 1</dc:title>
</cp:coreProperties>
</file>