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CBB-EDC4-4EF5-9E96-22015636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E44-639B-43C7-BD48-FF8B2371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08B-7D00-45C0-BE18-376A0964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868-8409-4816-B6C4-4EB9E6DD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236-614D-48C7-A3B0-BF92C175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189-72C7-4A72-93DC-4041FC6F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604-5E93-4F41-B94F-78EA3574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F35-8E08-4288-9DE3-5DC9BCD9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0C2-1C8B-49A1-B7AE-ED5494DA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3BD-E0FE-4B23-B190-4B30742B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16DA-FED2-4B22-839B-2FD4B59A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134-3885-4ECD-95E8-07B3B2E5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F19C-24FE-4973-8E4C-529192BEA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589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11T14:03:21Z</dcterms:modified>
  <cp:revision>781</cp:revision>
  <dc:subject/>
  <dc:title>Diapositiva 1</dc:title>
</cp:coreProperties>
</file>