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5F2-80B9-4F32-AE76-F512E763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CF1-5183-4A7E-89F9-B852D9E8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689-BC91-4503-89C8-3BA12374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791-DFFE-462C-BC9D-7A28AA00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AE6-D4C5-4FCA-ABEE-451CD877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305-4511-4EB5-BE76-B5755203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51A-5D75-4A9E-9F08-57DC3088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2B1-BC31-4DCE-BBC5-A4945967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4C9-A4E9-4CB9-A4B0-522FE79C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DB4-68CB-4158-92E2-E85D01B0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E3F-C7CC-4962-B174-00D363B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FB8-C2C8-4E63-A2BB-6DEFE89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8BA6-1C52-4321-95AC-2C6324E48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26T03:11:49Z</dcterms:modified>
  <cp:revision>121</cp:revision>
  <dc:subject/>
  <dc:title>Diapositiva 1</dc:title>
</cp:coreProperties>
</file>