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AF8-BC68-4D39-94CD-CA4365A5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B7A-1D02-47E7-94AA-9904115C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B579-A59F-4EDB-8E7E-F1595C3E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E255-884A-45ED-945A-A53F8314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30D-785E-4709-AFFA-0DC479C2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1AFE-A673-4FC2-92C1-9CAAE7A7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3171-4923-4EF8-9228-FFBA42E4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A58-3186-4EF5-8CD4-31ED7493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BC5-4A26-442C-9061-776A8D48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05B1-6ECF-4E31-9B33-B8D47FDB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78E4-C263-492C-8C08-2156AE30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92C-ACE6-41D8-B804-1079E9AC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461B-EACC-4149-BCB7-AB40A2470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4920" y="1125360"/>
            <a:ext cx="5327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1c1c1c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6-15T16:52:48Z</dcterms:modified>
  <cp:revision>606</cp:revision>
  <dc:subject/>
  <dc:title>Diapositiva 1</dc:title>
</cp:coreProperties>
</file>