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DAB-8F02-45AE-A9BA-7FA03E6F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987-0D17-458C-9E91-F1B7DF08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FAF-3D5B-4D8F-82FB-DC1F99E0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4B5-53A9-4654-B639-4F895DE4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F94-D240-4F76-B394-5193C3E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E6D-1698-4EED-B89E-038F427F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A8D-9B0E-403A-997A-B8BC4713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31C-FCCF-45DA-B8B8-997A93D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644-1569-4887-99AA-C8D0037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148-46AD-4742-A27F-35F7360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9A9-1D4F-42C2-901F-7A9A7BE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D25-51B0-48EE-A383-B07F14F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8AFD-CDE8-4F1E-A103-F433AF4E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1125360"/>
            <a:ext cx="72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4T00:58:44Z</dcterms:modified>
  <cp:revision>733</cp:revision>
  <dc:subject/>
  <dc:title>Diapositiva 1</dc:title>
</cp:coreProperties>
</file>