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570-EEF0-4C90-864C-9C6A2BBD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0F4-4891-4E92-816F-3A114FA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BFA-77B1-444B-B786-81892033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BE2-52DB-46A8-8080-432D1DA8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0F0-2647-475A-B897-5C88EEA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3DB-C5E9-4253-BA46-352B79D7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FDD-7AA3-4EA1-96CD-C7F51D5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4BE-060E-4879-A1F9-1566CBF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9CF-A69E-4572-87F0-C49BA7F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D8B-46F7-4CC7-8E2C-17C69F6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79D-3793-4156-97A6-3EADCC4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A6E-1E93-46EE-93BF-ED3DC4C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07D-41FD-4809-8944-E852C4B0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489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2T13:39:31Z</dcterms:modified>
  <cp:revision>711</cp:revision>
  <dc:subject/>
  <dc:title>Diapositiva 1</dc:title>
</cp:coreProperties>
</file>