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CDA-C1AC-4F92-BAE4-293454E4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FA8-7692-4876-B6A9-C6ECFF4F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48C-F095-4BF6-BFEB-C3D6CE63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873-AE29-489A-AE67-8642B7B7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FF0-BFF0-4964-B494-925F8A18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6E6-31D8-4D51-B6C7-254971F3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D00-EF57-4078-BBCC-874F4B9D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24D-D555-415A-958F-9364EDF4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302-BD04-4EC5-A624-84B6714F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16D-C312-4348-B665-78884296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79D-708C-4FB4-BFB8-FF038F89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9F9-2C0F-4124-8DD8-85910C6F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D723-6C77-47E0-854A-A2BE5DD53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1125360"/>
            <a:ext cx="5327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15T16:52:48Z</dcterms:modified>
  <cp:revision>606</cp:revision>
  <dc:subject/>
  <dc:title>Diapositiva 1</dc:title>
</cp:coreProperties>
</file>