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631-9086-45BF-ACA8-E74DF058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7F4-EE11-4267-B0F0-884E1F06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901-C781-41C9-8A33-9F3A02BA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3B8-12AC-4CC5-B89C-BE41E849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370-926A-4FD8-81D6-5A5DBE8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559-B574-4B68-9C5A-D07FDE5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731-BBAF-441D-B660-C58535C6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2B3-3E4E-4114-9160-4400C2D9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7F8-E9F2-43FF-A91E-67BB592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514-C6F7-4FFB-AD93-D5F1167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FD1-7A6E-4B6A-8EA2-B5CD873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E47-B5C6-465B-BB3D-57F89E7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9E2-6E36-4BB4-8373-EE246FB2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1:50Z</dcterms:modified>
  <cp:revision>137</cp:revision>
  <dc:subject/>
  <dc:title>Diapositiva 1</dc:title>
</cp:coreProperties>
</file>