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4EB1-BBC1-4092-B894-B67CEB4FA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4BBE-755A-4557-9046-D1AB5871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8B84-2792-414D-8EB4-A53C7300C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739C-4FFA-450D-A198-DB3A088CB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B787-4E81-438C-997A-18A00834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31E1-7897-45B0-8659-C0C0A0BA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C7A9-3396-4470-B9B1-1B35481E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9025-04AD-4C3C-8B45-7702A79A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8EFD-3824-4F6A-BB6A-552CA482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F37A-050C-49E5-8CEE-60994A50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74A6-5B39-4E91-B0E4-C83D71D3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375C-F54D-45AE-B7F9-A01B956A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F7FA-8937-4E72-BABD-5DF068EA0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560" y="620280"/>
            <a:ext cx="727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000000"/>
                </a:solidFill>
                <a:latin typeface="Arial"/>
              </a:rPr>
              <a:t>Presentation Tit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60360" y="1125360"/>
            <a:ext cx="7272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000000"/>
                </a:solidFill>
                <a:latin typeface="Arial"/>
              </a:rPr>
              <a:t>Subheading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0-04T00:58:44Z</dcterms:modified>
  <cp:revision>733</cp:revision>
  <dc:subject/>
  <dc:title>Diapositiva 1</dc:title>
</cp:coreProperties>
</file>