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8261-05F3-4CD1-8E5B-8A40A1E0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6954-1C5F-4B1F-A024-3EC5E157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7891-6134-4A20-A69B-C81EB1F4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47F-4D60-4632-9ED5-FBC76BE8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6AE4-3F27-4603-BCC7-42E15ED8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4727-FE6A-41DC-81CA-B5F19829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DD09-B28B-4945-BEF9-DAA36B24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0768-740F-4CD2-8996-EE08B3F7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6B59-564E-489D-9489-2BE3F9DF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B492-8A45-4D4E-B070-7ED8DB8B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4D03-A2BF-44E7-824F-0C01A9A6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E621-571B-453E-AEDA-16180ED9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C96F-CDE8-4BC7-BFB0-BE771DBF0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869000"/>
            <a:ext cx="5184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373720"/>
            <a:ext cx="51847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30T19:20:25Z</dcterms:modified>
  <cp:revision>630</cp:revision>
  <dc:subject/>
  <dc:title>Diapositiva 1</dc:title>
</cp:coreProperties>
</file>