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E02-0D15-4D1C-818A-5AB2E3B5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7C91-C225-48FC-8034-647F8C31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908-B6AF-42C7-A7E8-C657D438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399-F530-460C-9FBF-9788FD54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3DC-E3EF-4A92-8F78-FA1CE514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934-9619-4E58-841C-179C4540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184-74E1-4BDC-B5CC-81D6ADAD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BD2-BB9F-489F-8740-D35A0E44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4CF-F668-4504-81F2-AB9E2ABC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6D2-ADD6-4602-908C-7FD4C1D6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B4C-13C1-462C-9E23-E71CD7EF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16F-162A-4012-B534-EBA55FBB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8F15-4142-4AAB-A9E0-264601553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436572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508464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7:59:33Z</dcterms:modified>
  <cp:revision>577</cp:revision>
  <dc:subject/>
  <dc:title>Diapositiva 1</dc:title>
</cp:coreProperties>
</file>