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1B6-2A45-47FF-85F2-348366CC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303-2E5C-4E6F-8B68-2D26BD78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004-02A0-4A85-BC21-79873B8E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28C-D062-4B16-A208-1AFA4A9D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E5D-E797-4ED9-83FA-D6A4BD97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6C2-9112-4114-B102-44225F6B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DF32-E333-4856-9BF1-92382579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460-920D-43F7-A1D0-4BA59A11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68F-FCA8-46E5-99CD-2FA93614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B8A-8296-4E4A-8606-E1C3EB2E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930-07E8-41B0-AD96-EBD833D4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73A-B0C6-4AEC-BF43-9732C921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CDEE-2A91-467B-AF58-56D80F08A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6T17:44:06Z</dcterms:modified>
  <cp:revision>197</cp:revision>
  <dc:subject/>
  <dc:title>Diapositiva 1</dc:title>
</cp:coreProperties>
</file>