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F86-45F3-4435-B81E-4F8D4A3F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88B-E12A-4D6B-A552-98068075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AB9-95E7-4ED4-8F22-0E62C344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B6B-5A1D-4779-A1D6-ADB5BEAF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BB2-0C98-4065-B419-93C0F3BD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C41-143C-4926-B768-0B1F87AF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5E3-1152-40EA-AA5F-4424635F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C76-B9FC-4F3C-B666-63189BB8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325-EE57-4E10-BB44-564D9D0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866-1C58-4AA5-9892-1C7183BC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883-665E-4382-8DAB-8FF29556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E31-C337-46D3-AE2B-8ED09D9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6E5-1975-41A8-9BEA-D3AC00323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508608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6T22:17:47Z</dcterms:modified>
  <cp:revision>651</cp:revision>
  <dc:subject/>
  <dc:title>Diapositiva 1</dc:title>
</cp:coreProperties>
</file>