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0D2B-D201-4F22-AF7E-4AFC3ECDC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4D72-8E5A-4A09-A46A-42820C41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10A9-6351-40A6-831F-98FACA0ED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8F4D-D65D-47C8-9FA8-E27707590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13C9-8364-423F-8EC5-147B6E39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57EB-8D12-4FAB-BFC1-5CA68FD2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189B-B0FC-47B6-B1DD-A981DC75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A5E6-2138-4A89-A6B7-509B278B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5028-C858-48C5-B08A-913714D4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A402-FDEB-4138-B04B-CD00ABFE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208F-7CFF-4E17-BB9B-56830363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A386-A02F-43C7-A067-FF525547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ECE4-ABCF-41A8-9810-0FF954E14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869000"/>
            <a:ext cx="518472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373720"/>
            <a:ext cx="51847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3-30T19:20:25Z</dcterms:modified>
  <cp:revision>630</cp:revision>
  <dc:subject/>
  <dc:title>Diapositiva 1</dc:title>
</cp:coreProperties>
</file>