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7D9-1B74-47D8-85EE-09244C4E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1244-3E4F-423F-8292-4F2121BE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0DF-4E42-419E-9316-4DB141E1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237B-BC9A-45B9-B96D-7F1E49FA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BAE-69CE-4F15-8974-0F8955B1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B096-61F3-4199-9DEF-1FCE0DE6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7F7-BECA-4594-B090-507D11F7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080B-BC1C-4AD4-9FAD-4FE988F9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6A8-22F6-4693-819C-698FD6AA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F6A-3FD8-4706-94EA-DABA4965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A19-D5F4-4D36-B19D-2EB69C75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F441-3796-4A15-8F4C-054A5C4C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AED7-D54B-427B-83F1-57FD688F4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4365720"/>
            <a:ext cx="45370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000" y="5084640"/>
            <a:ext cx="399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9T17:59:33Z</dcterms:modified>
  <cp:revision>577</cp:revision>
  <dc:subject/>
  <dc:title>Diapositiva 1</dc:title>
</cp:coreProperties>
</file>