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05C-799C-4EA2-8C6F-03E5A57E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C46-EA28-43BF-8CAF-D5C6F5C4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81E-CD44-4E01-AEA9-D6C42B09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3FB-F284-4D78-9376-BE4FF7E2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9D9-637B-4E06-B2E4-F8C85AA9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780-8DCE-4094-B096-5C3FF89D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BB3-2339-4AC8-8633-4D7F66A4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8AB-5A3E-4B25-865A-F8105B15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CC9-7962-42B5-B787-34C2F2B7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04A-EA0B-438D-B8E7-DCF7CC6D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205-305F-49F7-9E16-412AA62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DC2-E471-4C2F-BAD8-D5F6B37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FCA0-F92F-4401-8A28-7D515BBEF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508608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6T22:17:47Z</dcterms:modified>
  <cp:revision>651</cp:revision>
  <dc:subject/>
  <dc:title>Diapositiva 1</dc:title>
</cp:coreProperties>
</file>