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2BED-67BA-4175-9E38-BBE0F908C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5E3B-785A-4466-A058-1C221003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770A-6A74-4BB1-B7DB-CB1ECE05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8FAC-BDA9-4129-9858-32D3C7207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6047-F5D2-4D0A-AD58-AFD0CC4A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2232-C562-41AA-9716-29D87AE4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DB3D-556F-48EA-8EAE-A8E5DC86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C131-F4C7-4D76-AC7D-FFBEF369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108E-6AF0-48F7-9110-2AF2747E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043F-11ED-4845-BFBB-BA724C9D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84F5-0C08-4472-9240-7112F7B2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F5CD-55CD-4C30-97C9-0819ED80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3804-9CFE-494F-A1FE-E597F3F82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640" y="4365720"/>
            <a:ext cx="45370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8000" y="5084640"/>
            <a:ext cx="399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2-29T17:59:33Z</dcterms:modified>
  <cp:revision>577</cp:revision>
  <dc:subject/>
  <dc:title>Diapositiva 1</dc:title>
</cp:coreProperties>
</file>