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8FA-CD15-4D18-B3DA-46DBC7CE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35C-3A47-4941-A730-4D13FF0E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037-CE55-42CF-9A72-9D01BCA1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419-E1D8-4C66-964F-E870E239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CF2-8CD6-464D-A808-D8D6905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01B-628E-4FD4-8E8B-0264B525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D61-01D5-4A76-841F-3E3EFEE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437-936D-4C46-A8FC-5C55B026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42D-BBF0-41DE-BDE8-722B971F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6CE-0E5C-4176-BF14-0120076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54C-60AC-404C-BEC3-94B1B7A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72E-AAD8-4E35-BC43-34D0E6F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8553-9A7E-492F-A9EB-0C3AD955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3:30Z</dcterms:modified>
  <cp:revision>338</cp:revision>
  <dc:subject/>
  <dc:title>Diapositiva 1</dc:title>
</cp:coreProperties>
</file>