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D08E-BB54-4A8C-815F-2CFC7644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1F49-94DF-4B86-AFB2-8F273780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0AC-1C37-415E-84E8-30346C61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43A-9189-49D3-ADEB-08C42969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BEF6-7C6C-4492-8132-4CE3C4D2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0A8-9B6C-4FB3-9758-41965336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46D-0344-4C70-B950-99D49996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25C-24E5-41FF-A67F-C8755670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DCD-797F-4A55-84A8-514D6D65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2D8-893E-4FD8-8FFD-0721C8F0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A07F-F821-401A-AD03-1375A315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A02-A19F-4DD6-865D-05BCB1ED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4E48-6A4F-4509-90E7-610BA65B6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869000"/>
            <a:ext cx="5184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373720"/>
            <a:ext cx="51847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30T19:20:25Z</dcterms:modified>
  <cp:revision>630</cp:revision>
  <dc:subject/>
  <dc:title>Diapositiva 1</dc:title>
</cp:coreProperties>
</file>