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423-EA2B-4712-BF3E-987BF9C1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BB9-0D04-45B0-B225-F93BB114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2CB-5E2C-441A-BE40-45216BD1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F30-A5F4-4A62-A848-0CF5D51B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FE1-27A7-4FF9-ABDA-D9708A5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B81-8504-4C09-90D3-E7EB27D5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AA3-933A-423E-B669-B50645A2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FE6-9D8E-4DC7-A6E4-7C051851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76A-F23B-4F26-9F20-B2E20182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CCD-B8D6-4F9F-A280-8996581A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47A-41EE-4C83-9695-B8ECFA73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D69-0205-4AFA-9939-1BFFAFB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D450-CFDB-4663-AC5F-4A75D6127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373720"/>
            <a:ext cx="5184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30T19:20:25Z</dcterms:modified>
  <cp:revision>630</cp:revision>
  <dc:subject/>
  <dc:title>Diapositiva 1</dc:title>
</cp:coreProperties>
</file>