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2E47-9449-4009-8F69-921958DA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4254-C0DE-4F27-926A-CEF7DEF5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2AF5-11B3-4A8D-A189-7B81C216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ACE1-7599-46F3-8B11-949CAA06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C0FE-2E55-4837-82B6-CF6A95A5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C928-70B4-46CD-A337-5BDB0F63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0D5C-4546-48AF-86A6-77995B49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762-359C-405F-8086-2814DA19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653-804C-4396-BF24-A2811761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C3B-4845-45D2-88A0-A117AC27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1869-B6DE-4229-996C-581E2077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1722-8250-441B-AD62-CF56E86D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CEEF-E199-48E9-97DC-9F6AE2295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16T17:44:06Z</dcterms:modified>
  <cp:revision>197</cp:revision>
  <dc:subject/>
  <dc:title>Diapositiva 1</dc:title>
</cp:coreProperties>
</file>