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94A-F082-4DA1-B39D-2233025D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B1D-BAE0-49E5-A4C4-8A04D2E0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706-6F1A-49FA-AF15-A9090264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2AF-8373-407B-9A69-600DD3E5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387-7B51-43B1-AC05-0D788392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62D-37A9-4AA2-B26C-6365514C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DB7-7854-43ED-86A7-F948ACEE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F6B-897D-4B00-A99A-7561B40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62B-44F9-46D4-82C4-A0E9248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AB1-C14D-4E8A-B299-554E249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706-440A-4D57-AE34-8C9A653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393-34AE-4610-A57D-E6E5194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0152-53A0-4154-B2C0-E566A76F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3:30Z</dcterms:modified>
  <cp:revision>338</cp:revision>
  <dc:subject/>
  <dc:title>Diapositiva 1</dc:title>
</cp:coreProperties>
</file>