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5B9-9405-433A-95B1-2DA5B89E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5C7-8846-4EE6-8426-5692AB3C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01E-F5B6-45C8-B8A7-E396D060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6E2-100F-47D9-9E10-B11C7DCC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D95-19A9-4D1E-B754-7A9BEE18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701-5BFA-40E0-AB95-D171BBCE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D69-7995-4FDC-A75C-7E9A56D1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B96-32EA-4667-9B4D-9ECC6073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176-65DB-4643-B679-A95E18CE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34D-A2F7-4585-B498-E13EC0D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3EC-BD3C-4B83-A0F9-DB3E082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FE0-7661-4D51-887D-E4C382F4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4EAE-4751-403D-92AA-41D16593C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508608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6T22:17:47Z</dcterms:modified>
  <cp:revision>651</cp:revision>
  <dc:subject/>
  <dc:title>Diapositiva 1</dc:title>
</cp:coreProperties>
</file>