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BEA8-0892-4901-A175-4D2E08A3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D80B-69E7-4DD3-8707-6DBEAE68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CF70-A9F9-40CA-9E7D-BDFCFB1A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B4BF-9ADB-4AE8-AC2F-4C322D29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388-8702-4D76-93DF-C348D10F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BAF1-E2CC-4C91-B944-54847791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BA8B-149C-40E6-8F2E-18EA7E8C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D957-474E-40A0-83BB-246DC3DA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73BF-07E9-4823-9EA8-450279B0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A939-8674-4ACF-94A6-2A044514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B31A-287C-457A-A3F1-E7D74291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27B5-1543-41FB-9E67-4F1BF430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6518-33B0-45BB-A2E7-A945E26EB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16T17:44:06Z</dcterms:modified>
  <cp:revision>197</cp:revision>
  <dc:subject/>
  <dc:title>Diapositiva 1</dc:title>
</cp:coreProperties>
</file>