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C1E-250A-4092-8C82-4399FE14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1D1-2A77-40CE-AEF6-85FDDC6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5EF-BACC-47D2-B582-8D2B8481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602-E1C9-4AFA-82D5-3FF18C77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D08-9F7F-475E-92A0-DCFCCC4C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FDC-C48A-444D-B6DD-9757148C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429-DADF-4A1C-B740-E876FFA8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AEC-AB1C-41E5-9EA1-991B46FF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352-1589-47D3-BA42-0B99553B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A18-8D68-4AF5-903A-802E660D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5F4-0B6F-4900-AC36-1A241932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57C-32F0-42B5-B7E1-9A6A93B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4809-F875-4D06-949C-DB4D32B2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9:33Z</dcterms:modified>
  <cp:revision>577</cp:revision>
  <dc:subject/>
  <dc:title>Diapositiva 1</dc:title>
</cp:coreProperties>
</file>