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979-4083-4F19-8563-D8A6B95C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267-2035-4452-A2B0-46A552B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E32-7318-4976-918E-A80289F5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AF7-5E63-49F9-9F7A-A168B9FE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E86-4216-48C3-9C76-199EB19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BD9-F34E-4599-9036-9BDEE7B3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CB2-D919-4116-B475-085B3C4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52A-3BDD-48B6-BEA4-6A4D14C3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A52-1006-4928-B463-9681430A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179-0AAB-437D-BDFF-A423332D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120-B668-4DCD-917E-C89B5D1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918-65B9-4AAF-8B1D-BBBAD961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99D-3330-4AF7-81F7-AFCF12E41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60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22:17:47Z</dcterms:modified>
  <cp:revision>651</cp:revision>
  <dc:subject/>
  <dc:title>Diapositiva 1</dc:title>
</cp:coreProperties>
</file>