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C10-E719-4C49-847F-DACD6A86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3AA-2246-4CBD-BFEA-48A86453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515-2EA5-45AF-A934-5559BCAF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14F-90DF-4713-AB07-116F5E82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BFE-3475-4A73-A11D-080398CB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22A-CE0D-4EF2-A391-D0E275E2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A0A-EF08-4073-8B41-37ACF145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295-813C-461D-B11C-94AA0E46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D60-E5B4-4F62-8EC7-29300BEC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03E-0280-41A3-969A-4F6A8918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1C5-036B-4F08-9078-E65DBC58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2BB-4B9F-49A4-8F74-A7242970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311A-7D27-4112-87E5-896C306E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360036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773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360036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8-01T17:21:54Z</dcterms:modified>
  <cp:revision>684</cp:revision>
  <dc:subject/>
  <dc:title>Diapositiva 1</dc:title>
</cp:coreProperties>
</file>